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24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7316640" cy="960120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44">
                <a:moveTo>
                  <a:pt x="5" y="0"/>
                </a:moveTo>
                <a:arcTo wR="5" hR="5" stAng="16200000" swAng="-5400000"/>
                <a:lnTo>
                  <a:pt x="0" y="28339"/>
                </a:lnTo>
                <a:arcTo wR="5" hR="5" stAng="10800000" swAng="-5400000"/>
                <a:lnTo>
                  <a:pt x="21595" y="283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94120" y="917064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B101E16E-9D51-4377-99B2-11EF109E6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91800" y="4578480"/>
            <a:ext cx="536724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58560" y="728640"/>
            <a:ext cx="47941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07C8-0449-4439-BC67-2F1389244E7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3AFB4-E8EB-499E-A15F-C69123EFA126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DF732-31F2-4B1C-AB1C-928CBDA848B4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DEE7D-1ADC-418F-B8A3-9612FB7E7B07}" type="slidenum"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body"/>
          </p:nvPr>
        </p:nvSpPr>
        <p:spPr>
          <a:xfrm>
            <a:off x="992160" y="4573800"/>
            <a:ext cx="5370480" cy="43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Text Box 1"/>
          <p:cNvSpPr/>
          <p:nvPr/>
        </p:nvSpPr>
        <p:spPr>
          <a:xfrm>
            <a:off x="977760" y="738360"/>
            <a:ext cx="5402520" cy="36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1"/>
          <p:cNvSpPr>
            <a:spLocks noGrp="1"/>
          </p:cNvSpPr>
          <p:nvPr>
            <p:ph type="body"/>
          </p:nvPr>
        </p:nvSpPr>
        <p:spPr>
          <a:xfrm>
            <a:off x="992160" y="4578120"/>
            <a:ext cx="537048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B4CC-7484-41B2-A98F-988882EA4FB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 Box 1"/>
          <p:cNvSpPr/>
          <p:nvPr/>
        </p:nvSpPr>
        <p:spPr>
          <a:xfrm>
            <a:off x="4145040" y="912024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E7895-372F-4D6A-95EA-CE20539EDA61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18908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301EA90F-27E3-4E4D-9062-667F828B2B47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raadita võrk – kombina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4443840" y="1371600"/>
            <a:ext cx="4313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hernet paketi forma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57120" y="2571840"/>
            <a:ext cx="82296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ambl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7 octets of 10101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-of-Frame-Delimiter  1 octet of 1010101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destina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C sour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6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thertype/Length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2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loa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6-1500 oct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C32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4 oct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ostamble                1 octet of 01111110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rame gap            960 ns (100M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1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ntern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38080" y="1676520"/>
            <a:ext cx="784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 seob erinevaid kohtvõr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gus reeglina ethernet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sh wifi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ri kohtvõrkude sidumiseks antakse igale masinale unikaalne nn IP aadress: tüüpiliselt neli bait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193.40.254.28)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P aadress ja muu vajalik info on etherneti paketi sisu üks 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uuter on masin, mis ühendatud korraga mitme kohtvõrguga ja mis otsustab, kuhu kohtvõrku pakett edasi sa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Marsru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28760" y="1071720"/>
            <a:ext cx="82278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aab teha suvalisest arvut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58" name="AutoShape 4"/>
          <p:cNvCxnSpPr/>
          <p:nvPr/>
        </p:nvCxnSpPr>
        <p:spPr>
          <a:xfrm>
            <a:off x="4928760" y="4357800"/>
            <a:ext cx="178668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AutoShape 5"/>
          <p:cNvCxnSpPr/>
          <p:nvPr/>
        </p:nvCxnSpPr>
        <p:spPr>
          <a:xfrm>
            <a:off x="1357200" y="4357800"/>
            <a:ext cx="1859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78672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7786800" y="36432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6858000" y="4857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6715080" y="378612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64" name="AutoShape 10"/>
          <p:cNvCxnSpPr/>
          <p:nvPr/>
        </p:nvCxnSpPr>
        <p:spPr>
          <a:xfrm flipH="1">
            <a:off x="6644520" y="3646080"/>
            <a:ext cx="50076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AutoShape 11"/>
          <p:cNvCxnSpPr/>
          <p:nvPr/>
        </p:nvCxnSpPr>
        <p:spPr>
          <a:xfrm flipH="1" flipV="1">
            <a:off x="7287840" y="4357440"/>
            <a:ext cx="35784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2"/>
          <p:cNvCxnSpPr/>
          <p:nvPr/>
        </p:nvCxnSpPr>
        <p:spPr>
          <a:xfrm flipH="1" flipV="1">
            <a:off x="6930720" y="4501800"/>
            <a:ext cx="357840" cy="110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7" name="Picture 13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71" name="AutoShape 17"/>
          <p:cNvCxnSpPr/>
          <p:nvPr/>
        </p:nvCxnSpPr>
        <p:spPr>
          <a:xfrm flipH="1" flipV="1">
            <a:off x="715680" y="457272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AutoShape 18"/>
          <p:cNvCxnSpPr/>
          <p:nvPr/>
        </p:nvCxnSpPr>
        <p:spPr>
          <a:xfrm flipV="1">
            <a:off x="353880" y="3645720"/>
            <a:ext cx="57240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AutoShape 19"/>
          <p:cNvCxnSpPr/>
          <p:nvPr/>
        </p:nvCxnSpPr>
        <p:spPr>
          <a:xfrm flipV="1">
            <a:off x="713880" y="378720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4" name="Text Box 20"/>
          <p:cNvSpPr/>
          <p:nvPr/>
        </p:nvSpPr>
        <p:spPr>
          <a:xfrm>
            <a:off x="2214720" y="5214960"/>
            <a:ext cx="4473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itstream Vera Sans"/>
              </a:rPr>
              <a:t>Saadab pakette ühest võrguliidesest te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ava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AutoShape 4"/>
          <p:cNvCxnSpPr/>
          <p:nvPr/>
        </p:nvCxnSpPr>
        <p:spPr>
          <a:xfrm>
            <a:off x="5000400" y="4428720"/>
            <a:ext cx="178668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AutoShape 5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7858080" y="37148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3"/>
          <a:stretch/>
        </p:blipFill>
        <p:spPr>
          <a:xfrm>
            <a:off x="692928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4"/>
          <a:stretch/>
        </p:blipFill>
        <p:spPr>
          <a:xfrm>
            <a:off x="6786720" y="385776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83" name="AutoShape 10"/>
          <p:cNvCxnSpPr/>
          <p:nvPr/>
        </p:nvCxnSpPr>
        <p:spPr>
          <a:xfrm flipH="1">
            <a:off x="6716160" y="3718080"/>
            <a:ext cx="500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 flipH="1" flipV="1">
            <a:off x="7358760" y="4428360"/>
            <a:ext cx="358200" cy="2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 flipV="1">
            <a:off x="7002000" y="457272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6" name="Picture 13" descr=""/>
          <p:cNvPicPr/>
          <p:nvPr/>
        </p:nvPicPr>
        <p:blipFill>
          <a:blip r:embed="rId5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"/>
          <p:cNvPicPr/>
          <p:nvPr/>
        </p:nvPicPr>
        <p:blipFill>
          <a:blip r:embed="rId6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"/>
          <p:cNvPicPr/>
          <p:nvPr/>
        </p:nvPicPr>
        <p:blipFill>
          <a:blip r:embed="rId7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"/>
          <p:cNvPicPr/>
          <p:nvPr/>
        </p:nvPicPr>
        <p:blipFill>
          <a:blip r:embed="rId8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90" name="AutoShape 17"/>
          <p:cNvCxnSpPr/>
          <p:nvPr/>
        </p:nvCxnSpPr>
        <p:spPr>
          <a:xfrm flipH="1" flipV="1">
            <a:off x="786960" y="464256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AutoShape 18"/>
          <p:cNvCxnSpPr/>
          <p:nvPr/>
        </p:nvCxnSpPr>
        <p:spPr>
          <a:xfrm flipV="1">
            <a:off x="426960" y="3717720"/>
            <a:ext cx="57240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AutoShape 19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3" name="Text Box 20"/>
          <p:cNvSpPr/>
          <p:nvPr/>
        </p:nvSpPr>
        <p:spPr>
          <a:xfrm>
            <a:off x="2286000" y="5286240"/>
            <a:ext cx="447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itstream Vera Sans"/>
              </a:rPr>
              <a:t>Tundmatud paketid saadetakse internetti läbi eraldi liid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AutoShape 21"/>
          <p:cNvCxnSpPr/>
          <p:nvPr/>
        </p:nvCxnSpPr>
        <p:spPr>
          <a:xfrm flipV="1">
            <a:off x="4799520" y="1904760"/>
            <a:ext cx="1600920" cy="205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5" name="Picture 22" descr=""/>
          <p:cNvPicPr/>
          <p:nvPr/>
        </p:nvPicPr>
        <p:blipFill>
          <a:blip r:embed="rId9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96" name="AutoShape 23"/>
          <p:cNvCxnSpPr/>
          <p:nvPr/>
        </p:nvCxnSpPr>
        <p:spPr>
          <a:xfrm flipH="1">
            <a:off x="6641280" y="929880"/>
            <a:ext cx="429480" cy="1436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AutoShape 24"/>
          <p:cNvCxnSpPr/>
          <p:nvPr/>
        </p:nvCxnSpPr>
        <p:spPr>
          <a:xfrm flipH="1" flipV="1">
            <a:off x="6786360" y="1503000"/>
            <a:ext cx="429120" cy="720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AutoShape 25"/>
          <p:cNvCxnSpPr/>
          <p:nvPr/>
        </p:nvCxnSpPr>
        <p:spPr>
          <a:xfrm flipH="1">
            <a:off x="6786360" y="1071720"/>
            <a:ext cx="429120" cy="1432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9" name="Picture 28" descr="http://www.suntekpc.com/image/network-access-point-xxx--linksys-wap54g-detail.jpg"/>
          <p:cNvPicPr/>
          <p:nvPr/>
        </p:nvPicPr>
        <p:blipFill>
          <a:blip r:embed="rId10"/>
          <a:stretch/>
        </p:blipFill>
        <p:spPr>
          <a:xfrm>
            <a:off x="3429000" y="3429000"/>
            <a:ext cx="14097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Suured infrastruktuuri marsruute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340160" cy="3471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-533520" y="1500120"/>
            <a:ext cx="95306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Väga kiired, oskavad marsruutimise keerulisemaid 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8465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207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10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14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18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22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226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230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234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238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42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59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60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61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63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64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65"/>
          <p:cNvSpPr/>
          <p:nvPr/>
        </p:nvSpPr>
        <p:spPr>
          <a:xfrm flipV="1">
            <a:off x="4800600" y="2887200"/>
            <a:ext cx="304920" cy="397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66"/>
          <p:cNvSpPr/>
          <p:nvPr/>
        </p:nvSpPr>
        <p:spPr>
          <a:xfrm flipV="1">
            <a:off x="5334120" y="197280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Group 67"/>
          <p:cNvGrpSpPr/>
          <p:nvPr/>
        </p:nvGrpSpPr>
        <p:grpSpPr>
          <a:xfrm>
            <a:off x="2438280" y="5562720"/>
            <a:ext cx="4645080" cy="676080"/>
            <a:chOff x="2438280" y="5562720"/>
            <a:chExt cx="4645080" cy="676080"/>
          </a:xfrm>
        </p:grpSpPr>
        <p:sp>
          <p:nvSpPr>
            <p:cNvPr id="271" name="AutoShape 68"/>
            <p:cNvSpPr/>
            <p:nvPr/>
          </p:nvSpPr>
          <p:spPr>
            <a:xfrm>
              <a:off x="2438280" y="5562720"/>
              <a:ext cx="4645080" cy="6760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Text Box 69"/>
            <p:cNvSpPr/>
            <p:nvPr/>
          </p:nvSpPr>
          <p:spPr>
            <a:xfrm>
              <a:off x="2438280" y="5562720"/>
              <a:ext cx="464508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838080" y="990720"/>
            <a:ext cx="784872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 on ümbriku se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mbriku peal on saaja aadress (ja tagaküljel ka saatja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uuter-arvutid on nagu postkontorid ja sorteerimispunkt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did on nagu veomasinad, mis posti kontorite vahel veav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id saadetakse eraldi, igalühel aadress pe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276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281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84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88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92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96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00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04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08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12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16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35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53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57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61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65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69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73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77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81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85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61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62"/>
          <p:cNvSpPr/>
          <p:nvPr/>
        </p:nvSpPr>
        <p:spPr>
          <a:xfrm flipV="1">
            <a:off x="5105520" y="3040200"/>
            <a:ext cx="3045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38080" y="990720"/>
            <a:ext cx="426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ssejuh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htvõrk: 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terne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ob kohtvõr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terneti b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asmehhanismi, IP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54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419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22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26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30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434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438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42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46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50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54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61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Line 62"/>
          <p:cNvSpPr/>
          <p:nvPr/>
        </p:nvSpPr>
        <p:spPr>
          <a:xfrm flipV="1">
            <a:off x="5410080" y="2049120"/>
            <a:ext cx="38124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48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9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9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9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0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0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1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1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1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2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55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6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6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6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7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7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8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8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8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9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61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AutoShape 72"/>
          <p:cNvSpPr/>
          <p:nvPr/>
        </p:nvSpPr>
        <p:spPr>
          <a:xfrm>
            <a:off x="736488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63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633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637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641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645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649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653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657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661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665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AutoShape 72"/>
          <p:cNvSpPr/>
          <p:nvPr/>
        </p:nvSpPr>
        <p:spPr>
          <a:xfrm>
            <a:off x="736128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1"/>
          <p:cNvSpPr/>
          <p:nvPr/>
        </p:nvSpPr>
        <p:spPr>
          <a:xfrm>
            <a:off x="76212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704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6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707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711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715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719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2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723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727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0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731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735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739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AutoShape 72"/>
          <p:cNvSpPr/>
          <p:nvPr/>
        </p:nvSpPr>
        <p:spPr>
          <a:xfrm>
            <a:off x="736272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778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781" name="Freeform 7"/>
            <p:cNvSpPr/>
            <p:nvPr/>
          </p:nvSpPr>
          <p:spPr>
            <a:xfrm>
              <a:off x="5181480" y="2514600"/>
              <a:ext cx="297000" cy="3016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Freeform 8"/>
            <p:cNvSpPr/>
            <p:nvPr/>
          </p:nvSpPr>
          <p:spPr>
            <a:xfrm>
              <a:off x="5181480" y="2514600"/>
              <a:ext cx="297000" cy="712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9"/>
            <p:cNvSpPr/>
            <p:nvPr/>
          </p:nvSpPr>
          <p:spPr>
            <a:xfrm>
              <a:off x="5405400" y="2514600"/>
              <a:ext cx="71640" cy="301680"/>
            </a:xfrm>
            <a:prstGeom prst="pie">
              <a:avLst/>
            </a:pr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785" name="Freeform 11"/>
            <p:cNvSpPr/>
            <p:nvPr/>
          </p:nvSpPr>
          <p:spPr>
            <a:xfrm>
              <a:off x="3200400" y="35812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3200400" y="35812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424320" y="3581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789" name="Freeform 15"/>
            <p:cNvSpPr/>
            <p:nvPr/>
          </p:nvSpPr>
          <p:spPr>
            <a:xfrm>
              <a:off x="4648320" y="350532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4648320" y="350532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4871880" y="350532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793" name="Freeform 19"/>
            <p:cNvSpPr/>
            <p:nvPr/>
          </p:nvSpPr>
          <p:spPr>
            <a:xfrm>
              <a:off x="6248520" y="36576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6248520" y="36576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21"/>
            <p:cNvSpPr/>
            <p:nvPr/>
          </p:nvSpPr>
          <p:spPr>
            <a:xfrm>
              <a:off x="6472080" y="3657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797" name="Freeform 23"/>
            <p:cNvSpPr/>
            <p:nvPr/>
          </p:nvSpPr>
          <p:spPr>
            <a:xfrm>
              <a:off x="3352680" y="27432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Freeform 24"/>
            <p:cNvSpPr/>
            <p:nvPr/>
          </p:nvSpPr>
          <p:spPr>
            <a:xfrm>
              <a:off x="3352680" y="27432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3576600" y="27432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801" name="Freeform 27"/>
            <p:cNvSpPr/>
            <p:nvPr/>
          </p:nvSpPr>
          <p:spPr>
            <a:xfrm>
              <a:off x="3886200" y="5181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28"/>
            <p:cNvSpPr/>
            <p:nvPr/>
          </p:nvSpPr>
          <p:spPr>
            <a:xfrm>
              <a:off x="3886200" y="5181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29"/>
            <p:cNvSpPr/>
            <p:nvPr/>
          </p:nvSpPr>
          <p:spPr>
            <a:xfrm>
              <a:off x="4110120" y="5181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805" name="Freeform 31"/>
            <p:cNvSpPr/>
            <p:nvPr/>
          </p:nvSpPr>
          <p:spPr>
            <a:xfrm>
              <a:off x="5486400" y="48006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32"/>
            <p:cNvSpPr/>
            <p:nvPr/>
          </p:nvSpPr>
          <p:spPr>
            <a:xfrm>
              <a:off x="5486400" y="48006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Freeform 33"/>
            <p:cNvSpPr/>
            <p:nvPr/>
          </p:nvSpPr>
          <p:spPr>
            <a:xfrm>
              <a:off x="5710320" y="48006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809" name="Freeform 35"/>
            <p:cNvSpPr/>
            <p:nvPr/>
          </p:nvSpPr>
          <p:spPr>
            <a:xfrm>
              <a:off x="3048120" y="457200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Freeform 36"/>
            <p:cNvSpPr/>
            <p:nvPr/>
          </p:nvSpPr>
          <p:spPr>
            <a:xfrm>
              <a:off x="3048120" y="4572000"/>
              <a:ext cx="29664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Freeform 37"/>
            <p:cNvSpPr/>
            <p:nvPr/>
          </p:nvSpPr>
          <p:spPr>
            <a:xfrm>
              <a:off x="3271680" y="457200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813" name="Freeform 39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Freeform 40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AutoShape 59"/>
          <p:cNvSpPr/>
          <p:nvPr/>
        </p:nvSpPr>
        <p:spPr>
          <a:xfrm>
            <a:off x="568836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AutoShape 60"/>
          <p:cNvSpPr/>
          <p:nvPr/>
        </p:nvSpPr>
        <p:spPr>
          <a:xfrm>
            <a:off x="281160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61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72"/>
          <p:cNvSpPr/>
          <p:nvPr/>
        </p:nvSpPr>
        <p:spPr>
          <a:xfrm>
            <a:off x="735984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3"/>
          <p:cNvSpPr/>
          <p:nvPr/>
        </p:nvSpPr>
        <p:spPr>
          <a:xfrm flipV="1">
            <a:off x="5334120" y="204912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suhteliselt väikeseid sõnumeid (64 kB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õnumiette pannakse lisainfo (päis ehk header), mis ütleb, e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hu see sõnum saata tuleb (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st  sõnum tuli (saatja IP aadres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lga lisainfot ka v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51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3" name="Group 6"/>
          <p:cNvGrpSpPr/>
          <p:nvPr/>
        </p:nvGrpSpPr>
        <p:grpSpPr>
          <a:xfrm>
            <a:off x="1143000" y="3809880"/>
            <a:ext cx="6016680" cy="682920"/>
            <a:chOff x="1143000" y="3809880"/>
            <a:chExt cx="6016680" cy="682920"/>
          </a:xfrm>
        </p:grpSpPr>
        <p:sp>
          <p:nvSpPr>
            <p:cNvPr id="854" name="AutoShape 7"/>
            <p:cNvSpPr/>
            <p:nvPr/>
          </p:nvSpPr>
          <p:spPr>
            <a:xfrm>
              <a:off x="1143000" y="3809880"/>
              <a:ext cx="601668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8"/>
            <p:cNvSpPr/>
            <p:nvPr/>
          </p:nvSpPr>
          <p:spPr>
            <a:xfrm>
              <a:off x="1143000" y="3809880"/>
              <a:ext cx="601668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õnum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6" name="Line 9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sisendpuhver on täis, siis ignoreeri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 datagrammi käsitletakse sõltumat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1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62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4" name="Picture 9" descr="http://cse1.net/recaps/img/11-ip-packet.jpg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1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P pakett etherneti paketi 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6" name="Object 2"/>
          <p:cNvGraphicFramePr/>
          <p:nvPr/>
        </p:nvGraphicFramePr>
        <p:xfrm>
          <a:off x="457200" y="5310360"/>
          <a:ext cx="846756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0360"/>
                    <a:ext cx="84675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Line 3"/>
          <p:cNvSpPr/>
          <p:nvPr/>
        </p:nvSpPr>
        <p:spPr>
          <a:xfrm>
            <a:off x="1676520" y="41911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4"/>
          <p:cNvSpPr/>
          <p:nvPr/>
        </p:nvSpPr>
        <p:spPr>
          <a:xfrm flipH="1">
            <a:off x="3274560" y="4191120"/>
            <a:ext cx="4956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0" name="Object 5"/>
          <p:cNvGraphicFramePr/>
          <p:nvPr/>
        </p:nvGraphicFramePr>
        <p:xfrm>
          <a:off x="380880" y="1704960"/>
          <a:ext cx="846792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04960"/>
                    <a:ext cx="846792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6920" y="240840"/>
            <a:ext cx="667224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379440"/>
                <a:tab algn="l" pos="406440"/>
                <a:tab algn="l" pos="814320"/>
                <a:tab algn="l" pos="1222200"/>
                <a:tab algn="l" pos="1630440"/>
                <a:tab algn="l" pos="2038320"/>
                <a:tab algn="l" pos="2446200"/>
                <a:tab algn="l" pos="2854440"/>
                <a:tab algn="l" pos="3262320"/>
                <a:tab algn="l" pos="3670200"/>
                <a:tab algn="l" pos="4078440"/>
                <a:tab algn="l" pos="4486320"/>
                <a:tab algn="l" pos="4894200"/>
                <a:tab algn="l" pos="5302080"/>
                <a:tab algn="l" pos="5710320"/>
                <a:tab algn="l" pos="6118200"/>
                <a:tab algn="l" pos="6526080"/>
                <a:tab algn="l" pos="6934320"/>
                <a:tab algn="l" pos="7342200"/>
                <a:tab algn="l" pos="7750080"/>
                <a:tab algn="l" pos="81583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Võrkude võr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71040" y="1356840"/>
            <a:ext cx="78058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988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7F353-96B6-4011-91C7-D681CD5010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P: liivakella kitsas ko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152280" y="1371600"/>
            <a:ext cx="4724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IP on Interneti protokollide liivakella talje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kõrge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Mitmeid madalama taseme protoko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Ainult üks protokoll võrgu tasem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0" y="1962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6" name="Object 5"/>
          <p:cNvGraphicFramePr/>
          <p:nvPr/>
        </p:nvGraphicFramePr>
        <p:xfrm>
          <a:off x="4929120" y="1643040"/>
          <a:ext cx="39578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643040"/>
                    <a:ext cx="39578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366920" y="259920"/>
            <a:ext cx="7167600" cy="8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71400" y="1312560"/>
            <a:ext cx="816768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äiteks: telefoniüh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 loovad (virtuaalse) kanal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enne andemvahetust on vaja kanal luua ja pärast sulged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d teavad teise olekut kommunikatsiooniprotsessi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vestlu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SMTP, TCP, AT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Näiteks: postiühend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uhtlus toimub paketi kaup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küsimus-vastus vormi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DNS, NFS, UDP, IP, Etherne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D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(user datagram protocol). Ei kontrollita, kas info jõudis pä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CP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transfer control protocol). Toimub kontro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2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83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5" name="Group 6"/>
          <p:cNvGrpSpPr/>
          <p:nvPr/>
        </p:nvGrpSpPr>
        <p:grpSpPr>
          <a:xfrm>
            <a:off x="838080" y="2895480"/>
            <a:ext cx="6016680" cy="682920"/>
            <a:chOff x="838080" y="2895480"/>
            <a:chExt cx="6016680" cy="682920"/>
          </a:xfrm>
        </p:grpSpPr>
        <p:sp>
          <p:nvSpPr>
            <p:cNvPr id="886" name="AutoShape 7"/>
            <p:cNvSpPr/>
            <p:nvPr/>
          </p:nvSpPr>
          <p:spPr>
            <a:xfrm>
              <a:off x="838080" y="2895480"/>
              <a:ext cx="601668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AutoShape 8"/>
            <p:cNvSpPr/>
            <p:nvPr/>
          </p:nvSpPr>
          <p:spPr>
            <a:xfrm>
              <a:off x="838080" y="2895480"/>
              <a:ext cx="601668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Line 9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Group 10"/>
          <p:cNvGrpSpPr/>
          <p:nvPr/>
        </p:nvGrpSpPr>
        <p:grpSpPr>
          <a:xfrm>
            <a:off x="2209680" y="4876920"/>
            <a:ext cx="4645080" cy="758880"/>
            <a:chOff x="2209680" y="4876920"/>
            <a:chExt cx="4645080" cy="758880"/>
          </a:xfrm>
        </p:grpSpPr>
        <p:sp>
          <p:nvSpPr>
            <p:cNvPr id="890" name="AutoShape 11"/>
            <p:cNvSpPr/>
            <p:nvPr/>
          </p:nvSpPr>
          <p:spPr>
            <a:xfrm>
              <a:off x="2209680" y="4876920"/>
              <a:ext cx="464508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AutoShape 12"/>
            <p:cNvSpPr/>
            <p:nvPr/>
          </p:nvSpPr>
          <p:spPr>
            <a:xfrm>
              <a:off x="2209680" y="4876920"/>
              <a:ext cx="464508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2" name="Line 13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AutoShape 16"/>
          <p:cNvSpPr/>
          <p:nvPr/>
        </p:nvSpPr>
        <p:spPr>
          <a:xfrm>
            <a:off x="2592360" y="3962520"/>
            <a:ext cx="434664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isaldab omakorda päisega inf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ähte- ja sihtport (kumbki 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atagrammi pikkus (kaks baiti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(kaks baiti, pole kohustuslik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osa (varieeruva pikkusega hulk bait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3"/>
          <p:cNvSpPr/>
          <p:nvPr/>
        </p:nvSpPr>
        <p:spPr>
          <a:xfrm flipH="1">
            <a:off x="982800" y="3200400"/>
            <a:ext cx="396720" cy="990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gab voo segmentid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tes käivitab taimeri ja ootab kinn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innitab saadud segmen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summa päisest ja and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rastab segmentide järje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ustab dublikaa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trollib voo mah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2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3" name="Group 3"/>
          <p:cNvGrpSpPr/>
          <p:nvPr/>
        </p:nvGrpSpPr>
        <p:grpSpPr>
          <a:xfrm>
            <a:off x="838080" y="3429000"/>
            <a:ext cx="2664000" cy="2739960"/>
            <a:chOff x="838080" y="3429000"/>
            <a:chExt cx="2664000" cy="2739960"/>
          </a:xfrm>
        </p:grpSpPr>
        <p:sp>
          <p:nvSpPr>
            <p:cNvPr id="904" name="AutoShape 4"/>
            <p:cNvSpPr/>
            <p:nvPr/>
          </p:nvSpPr>
          <p:spPr>
            <a:xfrm>
              <a:off x="838080" y="342900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AutoShape 5"/>
            <p:cNvSpPr/>
            <p:nvPr/>
          </p:nvSpPr>
          <p:spPr>
            <a:xfrm>
              <a:off x="838080" y="342900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AutoShape 6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4191120" y="3505320"/>
            <a:ext cx="301680" cy="301680"/>
            <a:chOff x="4191120" y="3505320"/>
            <a:chExt cx="301680" cy="301680"/>
          </a:xfrm>
        </p:grpSpPr>
        <p:sp>
          <p:nvSpPr>
            <p:cNvPr id="908" name="Oval 8"/>
            <p:cNvSpPr/>
            <p:nvPr/>
          </p:nvSpPr>
          <p:spPr>
            <a:xfrm>
              <a:off x="4191120" y="3505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AutoShape 9"/>
            <p:cNvSpPr/>
            <p:nvPr/>
          </p:nvSpPr>
          <p:spPr>
            <a:xfrm>
              <a:off x="4235400" y="354960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0" name="Group 10"/>
          <p:cNvGrpSpPr/>
          <p:nvPr/>
        </p:nvGrpSpPr>
        <p:grpSpPr>
          <a:xfrm>
            <a:off x="4191120" y="4343400"/>
            <a:ext cx="301680" cy="378000"/>
            <a:chOff x="4191120" y="4343400"/>
            <a:chExt cx="301680" cy="378000"/>
          </a:xfrm>
        </p:grpSpPr>
        <p:sp>
          <p:nvSpPr>
            <p:cNvPr id="911" name="Oval 11"/>
            <p:cNvSpPr/>
            <p:nvPr/>
          </p:nvSpPr>
          <p:spPr>
            <a:xfrm>
              <a:off x="4191120" y="4343400"/>
              <a:ext cx="301680" cy="37800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AutoShape 12"/>
            <p:cNvSpPr/>
            <p:nvPr/>
          </p:nvSpPr>
          <p:spPr>
            <a:xfrm>
              <a:off x="4235400" y="4398840"/>
              <a:ext cx="211320" cy="26532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65320"/>
                <a:gd name="textAreaBottom" fmla="*/ 264960 h 265320"/>
              </a:gdLst>
              <a:ahLst/>
              <a:rect l="textAreaLeft" t="textAreaTop" r="textAreaRight" b="textAreaBottom"/>
              <a:pathLst>
                <a:path w="21600" h="27110">
                  <a:moveTo>
                    <a:pt x="161" y="0"/>
                  </a:moveTo>
                  <a:arcTo wR="161" hR="161" stAng="16200000" swAng="-5400000"/>
                  <a:lnTo>
                    <a:pt x="0" y="26949"/>
                  </a:lnTo>
                  <a:arcTo wR="161" hR="161" stAng="10800000" swAng="-5400000"/>
                  <a:lnTo>
                    <a:pt x="21439" y="27110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Group 13"/>
          <p:cNvGrpSpPr/>
          <p:nvPr/>
        </p:nvGrpSpPr>
        <p:grpSpPr>
          <a:xfrm>
            <a:off x="4191120" y="5791320"/>
            <a:ext cx="301680" cy="301680"/>
            <a:chOff x="4191120" y="5791320"/>
            <a:chExt cx="301680" cy="301680"/>
          </a:xfrm>
        </p:grpSpPr>
        <p:sp>
          <p:nvSpPr>
            <p:cNvPr id="914" name="Oval 14"/>
            <p:cNvSpPr/>
            <p:nvPr/>
          </p:nvSpPr>
          <p:spPr>
            <a:xfrm>
              <a:off x="4191120" y="5791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AutoShape 15"/>
            <p:cNvSpPr/>
            <p:nvPr/>
          </p:nvSpPr>
          <p:spPr>
            <a:xfrm>
              <a:off x="4235400" y="583560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6" name="Group 16"/>
          <p:cNvGrpSpPr/>
          <p:nvPr/>
        </p:nvGrpSpPr>
        <p:grpSpPr>
          <a:xfrm>
            <a:off x="5791320" y="3429000"/>
            <a:ext cx="301680" cy="301680"/>
            <a:chOff x="5791320" y="3429000"/>
            <a:chExt cx="301680" cy="301680"/>
          </a:xfrm>
        </p:grpSpPr>
        <p:sp>
          <p:nvSpPr>
            <p:cNvPr id="917" name="Oval 17"/>
            <p:cNvSpPr/>
            <p:nvPr/>
          </p:nvSpPr>
          <p:spPr>
            <a:xfrm>
              <a:off x="5791320" y="342900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AutoShape 18"/>
            <p:cNvSpPr/>
            <p:nvPr/>
          </p:nvSpPr>
          <p:spPr>
            <a:xfrm>
              <a:off x="5835600" y="347328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19"/>
          <p:cNvGrpSpPr/>
          <p:nvPr/>
        </p:nvGrpSpPr>
        <p:grpSpPr>
          <a:xfrm>
            <a:off x="5715000" y="4267080"/>
            <a:ext cx="301680" cy="301680"/>
            <a:chOff x="5715000" y="4267080"/>
            <a:chExt cx="301680" cy="301680"/>
          </a:xfrm>
        </p:grpSpPr>
        <p:sp>
          <p:nvSpPr>
            <p:cNvPr id="920" name="Oval 20"/>
            <p:cNvSpPr/>
            <p:nvPr/>
          </p:nvSpPr>
          <p:spPr>
            <a:xfrm>
              <a:off x="5715000" y="42670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AutoShape 21"/>
            <p:cNvSpPr/>
            <p:nvPr/>
          </p:nvSpPr>
          <p:spPr>
            <a:xfrm>
              <a:off x="5759280" y="4311720"/>
              <a:ext cx="212760" cy="21276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Group 22"/>
          <p:cNvGrpSpPr/>
          <p:nvPr/>
        </p:nvGrpSpPr>
        <p:grpSpPr>
          <a:xfrm>
            <a:off x="5791320" y="5715000"/>
            <a:ext cx="301680" cy="301680"/>
            <a:chOff x="5791320" y="5715000"/>
            <a:chExt cx="301680" cy="301680"/>
          </a:xfrm>
        </p:grpSpPr>
        <p:sp>
          <p:nvSpPr>
            <p:cNvPr id="923" name="Oval 23"/>
            <p:cNvSpPr/>
            <p:nvPr/>
          </p:nvSpPr>
          <p:spPr>
            <a:xfrm>
              <a:off x="5791320" y="571500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AutoShape 24"/>
            <p:cNvSpPr/>
            <p:nvPr/>
          </p:nvSpPr>
          <p:spPr>
            <a:xfrm>
              <a:off x="5835600" y="575928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5" name="Line 25"/>
          <p:cNvSpPr/>
          <p:nvPr/>
        </p:nvSpPr>
        <p:spPr>
          <a:xfrm flipH="1">
            <a:off x="3497040" y="3657600"/>
            <a:ext cx="70164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Line 26"/>
          <p:cNvSpPr/>
          <p:nvPr/>
        </p:nvSpPr>
        <p:spPr>
          <a:xfrm flipH="1">
            <a:off x="3420720" y="4572000"/>
            <a:ext cx="77796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Line 27"/>
          <p:cNvSpPr/>
          <p:nvPr/>
        </p:nvSpPr>
        <p:spPr>
          <a:xfrm flipH="1" flipV="1">
            <a:off x="3497040" y="5859360"/>
            <a:ext cx="701640" cy="921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Line 28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Line 29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Line 30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Line 31"/>
          <p:cNvSpPr/>
          <p:nvPr/>
        </p:nvSpPr>
        <p:spPr>
          <a:xfrm flipV="1">
            <a:off x="2286000" y="3726000"/>
            <a:ext cx="1219320" cy="12348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32"/>
          <p:cNvSpPr/>
          <p:nvPr/>
        </p:nvSpPr>
        <p:spPr>
          <a:xfrm flipV="1">
            <a:off x="2133720" y="4563720"/>
            <a:ext cx="1295280" cy="62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33"/>
          <p:cNvSpPr/>
          <p:nvPr/>
        </p:nvSpPr>
        <p:spPr>
          <a:xfrm flipV="1">
            <a:off x="1905120" y="4944960"/>
            <a:ext cx="1752480" cy="5493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AutoShape 34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AutoShape 35"/>
          <p:cNvSpPr/>
          <p:nvPr/>
        </p:nvSpPr>
        <p:spPr>
          <a:xfrm>
            <a:off x="56466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36"/>
          <p:cNvSpPr/>
          <p:nvPr/>
        </p:nvSpPr>
        <p:spPr>
          <a:xfrm flipH="1">
            <a:off x="4487400" y="3657600"/>
            <a:ext cx="131148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37"/>
          <p:cNvSpPr/>
          <p:nvPr/>
        </p:nvSpPr>
        <p:spPr>
          <a:xfrm flipH="1" flipV="1">
            <a:off x="4411800" y="3725640"/>
            <a:ext cx="1234800" cy="625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38"/>
          <p:cNvSpPr/>
          <p:nvPr/>
        </p:nvSpPr>
        <p:spPr>
          <a:xfrm flipH="1">
            <a:off x="4563720" y="5867280"/>
            <a:ext cx="115884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39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40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41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42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 - 1023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üldtuntud pordid, 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5       SM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80       HTTP – T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517     U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024 – 5000      klientprogrammide ajutised pord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gt;5000                muud (mitte-üldtuntud) serve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2"/>
          <p:cNvSpPr/>
          <p:nvPr/>
        </p:nvSpPr>
        <p:spPr>
          <a:xfrm>
            <a:off x="825480" y="1468440"/>
            <a:ext cx="784872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ootab mingil üldteada pordil ühenduskutse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reserveerib dünaamilise por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lient saadab serverile ühenduskutse (koos oma pordinumbriga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vastab kliendile tema pordinumbr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i võta vastu uut kutset enne eelneva töötlem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37"/>
          <p:cNvSpPr/>
          <p:nvPr/>
        </p:nvSpPr>
        <p:spPr>
          <a:xfrm>
            <a:off x="4876920" y="1752480"/>
            <a:ext cx="2133360" cy="1828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36"/>
          <p:cNvSpPr/>
          <p:nvPr/>
        </p:nvSpPr>
        <p:spPr>
          <a:xfrm>
            <a:off x="1523880" y="1752480"/>
            <a:ext cx="2133720" cy="1828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AutoShape 2"/>
          <p:cNvSpPr/>
          <p:nvPr/>
        </p:nvSpPr>
        <p:spPr>
          <a:xfrm>
            <a:off x="2209680" y="1219320"/>
            <a:ext cx="1371600" cy="457200"/>
          </a:xfrm>
          <a:prstGeom prst="wedgeEllipseCallout">
            <a:avLst>
              <a:gd name="adj1" fmla="val -43750"/>
              <a:gd name="adj2" fmla="val 86805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1" name="Line 4"/>
          <p:cNvSpPr/>
          <p:nvPr/>
        </p:nvSpPr>
        <p:spPr>
          <a:xfrm>
            <a:off x="990720" y="624852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5"/>
          <p:cNvSpPr/>
          <p:nvPr/>
        </p:nvSpPr>
        <p:spPr>
          <a:xfrm>
            <a:off x="5867280" y="6019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"/>
          <p:cNvSpPr/>
          <p:nvPr/>
        </p:nvSpPr>
        <p:spPr>
          <a:xfrm>
            <a:off x="2514600" y="6019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581120" y="1828800"/>
            <a:ext cx="1828800" cy="506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175248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1581120" y="24382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188568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1581120" y="30481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188532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1581120" y="3657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165600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5"/>
          <p:cNvSpPr/>
          <p:nvPr/>
        </p:nvSpPr>
        <p:spPr>
          <a:xfrm>
            <a:off x="1581120" y="4267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6"/>
          <p:cNvSpPr/>
          <p:nvPr/>
        </p:nvSpPr>
        <p:spPr>
          <a:xfrm>
            <a:off x="196092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7"/>
          <p:cNvSpPr/>
          <p:nvPr/>
        </p:nvSpPr>
        <p:spPr>
          <a:xfrm>
            <a:off x="1581120" y="48769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8"/>
          <p:cNvSpPr/>
          <p:nvPr/>
        </p:nvSpPr>
        <p:spPr>
          <a:xfrm>
            <a:off x="170100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9"/>
          <p:cNvSpPr/>
          <p:nvPr/>
        </p:nvSpPr>
        <p:spPr>
          <a:xfrm>
            <a:off x="1581120" y="54864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20"/>
          <p:cNvSpPr/>
          <p:nvPr/>
        </p:nvSpPr>
        <p:spPr>
          <a:xfrm>
            <a:off x="173160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21"/>
          <p:cNvSpPr/>
          <p:nvPr/>
        </p:nvSpPr>
        <p:spPr>
          <a:xfrm>
            <a:off x="4952880" y="1828800"/>
            <a:ext cx="1828800" cy="506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22"/>
          <p:cNvSpPr/>
          <p:nvPr/>
        </p:nvSpPr>
        <p:spPr>
          <a:xfrm>
            <a:off x="5124600" y="1981080"/>
            <a:ext cx="1498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Rakend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23"/>
          <p:cNvSpPr/>
          <p:nvPr/>
        </p:nvSpPr>
        <p:spPr>
          <a:xfrm>
            <a:off x="4952880" y="24382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24"/>
          <p:cNvSpPr/>
          <p:nvPr/>
        </p:nvSpPr>
        <p:spPr>
          <a:xfrm>
            <a:off x="5257440" y="2590920"/>
            <a:ext cx="10933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Esitus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25"/>
          <p:cNvSpPr/>
          <p:nvPr/>
        </p:nvSpPr>
        <p:spPr>
          <a:xfrm>
            <a:off x="4952880" y="30481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26"/>
          <p:cNvSpPr/>
          <p:nvPr/>
        </p:nvSpPr>
        <p:spPr>
          <a:xfrm>
            <a:off x="5257080" y="3200400"/>
            <a:ext cx="12078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Seans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27"/>
          <p:cNvSpPr/>
          <p:nvPr/>
        </p:nvSpPr>
        <p:spPr>
          <a:xfrm>
            <a:off x="4952880" y="3657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5027760" y="3809880"/>
            <a:ext cx="166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Transpord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29"/>
          <p:cNvSpPr/>
          <p:nvPr/>
        </p:nvSpPr>
        <p:spPr>
          <a:xfrm>
            <a:off x="4952880" y="4267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30"/>
          <p:cNvSpPr/>
          <p:nvPr/>
        </p:nvSpPr>
        <p:spPr>
          <a:xfrm>
            <a:off x="5333040" y="4419720"/>
            <a:ext cx="1069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Võrgu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31"/>
          <p:cNvSpPr/>
          <p:nvPr/>
        </p:nvSpPr>
        <p:spPr>
          <a:xfrm>
            <a:off x="4952880" y="48769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32"/>
          <p:cNvSpPr/>
          <p:nvPr/>
        </p:nvSpPr>
        <p:spPr>
          <a:xfrm>
            <a:off x="5072760" y="5029200"/>
            <a:ext cx="1576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hendus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33"/>
          <p:cNvSpPr/>
          <p:nvPr/>
        </p:nvSpPr>
        <p:spPr>
          <a:xfrm>
            <a:off x="4952880" y="54864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34"/>
          <p:cNvSpPr/>
          <p:nvPr/>
        </p:nvSpPr>
        <p:spPr>
          <a:xfrm>
            <a:off x="5103360" y="5638680"/>
            <a:ext cx="14774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Füüsil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AutoShape 35"/>
          <p:cNvSpPr/>
          <p:nvPr/>
        </p:nvSpPr>
        <p:spPr>
          <a:xfrm>
            <a:off x="5410080" y="1219320"/>
            <a:ext cx="1371600" cy="457200"/>
          </a:xfrm>
          <a:prstGeom prst="wedgeEllipseCallout">
            <a:avLst>
              <a:gd name="adj1" fmla="val -39699"/>
              <a:gd name="adj2" fmla="val 7916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Te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71040" y="1312560"/>
            <a:ext cx="3830760" cy="20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696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omavahel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5" name="Line 4"/>
          <p:cNvSpPr/>
          <p:nvPr/>
        </p:nvSpPr>
        <p:spPr>
          <a:xfrm>
            <a:off x="1066680" y="617220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594360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Line 6"/>
          <p:cNvSpPr/>
          <p:nvPr/>
        </p:nvSpPr>
        <p:spPr>
          <a:xfrm>
            <a:off x="25909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676520" y="3124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Rectangle 8"/>
          <p:cNvSpPr/>
          <p:nvPr/>
        </p:nvSpPr>
        <p:spPr>
          <a:xfrm>
            <a:off x="190440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46160" y="1312560"/>
            <a:ext cx="3830760" cy="20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1040" indent="-31104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5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25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746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1" name="Line 10"/>
          <p:cNvSpPr/>
          <p:nvPr/>
        </p:nvSpPr>
        <p:spPr>
          <a:xfrm>
            <a:off x="6705720" y="3200400"/>
            <a:ext cx="15238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2133720" y="365760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12"/>
          <p:cNvSpPr/>
          <p:nvPr/>
        </p:nvSpPr>
        <p:spPr>
          <a:xfrm>
            <a:off x="5029200" y="3124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13"/>
          <p:cNvSpPr/>
          <p:nvPr/>
        </p:nvSpPr>
        <p:spPr>
          <a:xfrm>
            <a:off x="5257440" y="3276720"/>
            <a:ext cx="13600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Üle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AutoShape 14"/>
          <p:cNvSpPr/>
          <p:nvPr/>
        </p:nvSpPr>
        <p:spPr>
          <a:xfrm>
            <a:off x="5486400" y="365760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AutoShape 15"/>
          <p:cNvSpPr/>
          <p:nvPr/>
        </p:nvSpPr>
        <p:spPr>
          <a:xfrm>
            <a:off x="3505320" y="4038480"/>
            <a:ext cx="1523880" cy="457200"/>
          </a:xfrm>
          <a:prstGeom prst="leftRightArrow">
            <a:avLst>
              <a:gd name="adj1" fmla="val 50000"/>
              <a:gd name="adj2" fmla="val 66353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6"/>
          <p:cNvSpPr/>
          <p:nvPr/>
        </p:nvSpPr>
        <p:spPr>
          <a:xfrm>
            <a:off x="1676520" y="39625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205560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2133720" y="4495680"/>
            <a:ext cx="9903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9"/>
          <p:cNvSpPr/>
          <p:nvPr/>
        </p:nvSpPr>
        <p:spPr>
          <a:xfrm>
            <a:off x="1657440" y="4800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187848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21"/>
          <p:cNvSpPr/>
          <p:nvPr/>
        </p:nvSpPr>
        <p:spPr>
          <a:xfrm>
            <a:off x="5029200" y="3962520"/>
            <a:ext cx="1828800" cy="53316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22"/>
          <p:cNvSpPr/>
          <p:nvPr/>
        </p:nvSpPr>
        <p:spPr>
          <a:xfrm>
            <a:off x="5408280" y="4114800"/>
            <a:ext cx="1070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Mingi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AutoShape 23"/>
          <p:cNvSpPr/>
          <p:nvPr/>
        </p:nvSpPr>
        <p:spPr>
          <a:xfrm>
            <a:off x="5486400" y="4495680"/>
            <a:ext cx="9907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cap="sq" w="284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5010120" y="480060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5231160" y="4952880"/>
            <a:ext cx="13737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ffffff"/>
                </a:solidFill>
                <a:latin typeface="Arial"/>
              </a:rPr>
              <a:t>Alumine ki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6"/>
          <p:cNvSpPr/>
          <p:nvPr/>
        </p:nvSpPr>
        <p:spPr>
          <a:xfrm>
            <a:off x="1657440" y="5410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7"/>
          <p:cNvSpPr/>
          <p:nvPr/>
        </p:nvSpPr>
        <p:spPr>
          <a:xfrm>
            <a:off x="5029200" y="5410080"/>
            <a:ext cx="1828800" cy="533520"/>
          </a:xfrm>
          <a:prstGeom prst="rect">
            <a:avLst/>
          </a:prstGeom>
          <a:solidFill>
            <a:srgbClr val="b8dcc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8"/>
          <p:cNvSpPr/>
          <p:nvPr/>
        </p:nvSpPr>
        <p:spPr>
          <a:xfrm>
            <a:off x="3581280" y="3505320"/>
            <a:ext cx="1317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Protok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29"/>
          <p:cNvSpPr/>
          <p:nvPr/>
        </p:nvSpPr>
        <p:spPr>
          <a:xfrm>
            <a:off x="3809880" y="2590920"/>
            <a:ext cx="94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Times New Roman"/>
              </a:rPr>
              <a:t>Li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30"/>
          <p:cNvSpPr/>
          <p:nvPr/>
        </p:nvSpPr>
        <p:spPr>
          <a:xfrm>
            <a:off x="4191120" y="3809880"/>
            <a:ext cx="75960" cy="457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31"/>
          <p:cNvSpPr/>
          <p:nvPr/>
        </p:nvSpPr>
        <p:spPr>
          <a:xfrm>
            <a:off x="4419720" y="2971800"/>
            <a:ext cx="152388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32"/>
          <p:cNvSpPr/>
          <p:nvPr/>
        </p:nvSpPr>
        <p:spPr>
          <a:xfrm>
            <a:off x="4419720" y="2971800"/>
            <a:ext cx="1600200" cy="160020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33"/>
          <p:cNvSpPr/>
          <p:nvPr/>
        </p:nvSpPr>
        <p:spPr>
          <a:xfrm flipH="1">
            <a:off x="2666880" y="2971800"/>
            <a:ext cx="1447920" cy="83808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4"/>
          <p:cNvSpPr/>
          <p:nvPr/>
        </p:nvSpPr>
        <p:spPr>
          <a:xfrm flipH="1">
            <a:off x="2666880" y="2971800"/>
            <a:ext cx="1524240" cy="1676520"/>
          </a:xfrm>
          <a:prstGeom prst="line">
            <a:avLst/>
          </a:prstGeom>
          <a:ln cap="sq"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920" y="240840"/>
            <a:ext cx="667224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8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379440"/>
                <a:tab algn="l" pos="406440"/>
                <a:tab algn="l" pos="814320"/>
                <a:tab algn="l" pos="1222200"/>
                <a:tab algn="l" pos="1630440"/>
                <a:tab algn="l" pos="2038320"/>
                <a:tab algn="l" pos="2446200"/>
                <a:tab algn="l" pos="2854440"/>
                <a:tab algn="l" pos="3262320"/>
                <a:tab algn="l" pos="3670200"/>
                <a:tab algn="l" pos="4078440"/>
                <a:tab algn="l" pos="4486320"/>
                <a:tab algn="l" pos="4894200"/>
                <a:tab algn="l" pos="5302080"/>
                <a:tab algn="l" pos="5710320"/>
                <a:tab algn="l" pos="6118200"/>
                <a:tab algn="l" pos="6526080"/>
                <a:tab algn="l" pos="6934320"/>
                <a:tab algn="l" pos="7342200"/>
                <a:tab algn="l" pos="7750080"/>
                <a:tab algn="l" pos="815832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uhtmed, võrguseadmed, arvu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1040" y="1357200"/>
            <a:ext cx="780588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20720" y="1303200"/>
            <a:ext cx="2700360" cy="229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60360" y="3419640"/>
            <a:ext cx="3419640" cy="301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500720" y="5024520"/>
            <a:ext cx="2666880" cy="109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697200" y="1289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1017" name="Picture 5" descr="C:\Documents and Settings\Owner\Desktop\tmp\800px-UDP_encapsulation.svg.png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1"/>
          <p:cNvSpPr/>
          <p:nvPr/>
        </p:nvSpPr>
        <p:spPr>
          <a:xfrm>
            <a:off x="838080" y="380880"/>
            <a:ext cx="7766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O-OSI põhimõte ja internetiprotokollid: võrd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2"/>
          <p:cNvSpPr/>
          <p:nvPr/>
        </p:nvSpPr>
        <p:spPr>
          <a:xfrm>
            <a:off x="838080" y="1676520"/>
            <a:ext cx="784224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1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0" name="Picture 3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305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66920" y="259920"/>
            <a:ext cx="7167600" cy="8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anali- ja paketipõhised protokoll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71400" y="1312560"/>
            <a:ext cx="816768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Kanal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g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ful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 loovad (virtuaalse) kanal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enne andemvahetust on vaja kanal luua ja pärast sulged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osapooled teavad teise olekut kommunikatsiooniprotsessi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vestlu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SMTP, TCP, ATM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Paketipõhised 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imetatakse ka 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olekuta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 (</a:t>
            </a:r>
            <a:r>
              <a:rPr b="0" i="1" lang="et-EE" sz="1600" spc="-1" strike="noStrike">
                <a:solidFill>
                  <a:srgbClr val="000000"/>
                </a:solidFill>
                <a:latin typeface="Bitstream Vera Sans"/>
              </a:rPr>
              <a:t>stateless</a:t>
            </a: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) protokoll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suhtlus toimub paketi kaup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kommunikatsioon on “küsimus-vastus vormis”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Bitstream Vera Sans"/>
              </a:rPr>
              <a:t>näiteks DNS, NFS, UDP, IP, Etherne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Protokolliper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1024" name="Object 2"/>
          <p:cNvGraphicFramePr/>
          <p:nvPr/>
        </p:nvGraphicFramePr>
        <p:xfrm>
          <a:off x="1442880" y="1447920"/>
          <a:ext cx="618984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447920"/>
                    <a:ext cx="618984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1029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1" name="Group 6"/>
          <p:cNvGrpSpPr/>
          <p:nvPr/>
        </p:nvGrpSpPr>
        <p:grpSpPr>
          <a:xfrm>
            <a:off x="2971800" y="5638680"/>
            <a:ext cx="3578400" cy="454320"/>
            <a:chOff x="2971800" y="5638680"/>
            <a:chExt cx="3578400" cy="454320"/>
          </a:xfrm>
        </p:grpSpPr>
        <p:sp>
          <p:nvSpPr>
            <p:cNvPr id="1032" name="AutoShape 7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AutoShape 8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9"/>
          <p:cNvGrpSpPr/>
          <p:nvPr/>
        </p:nvGrpSpPr>
        <p:grpSpPr>
          <a:xfrm>
            <a:off x="2971800" y="5029200"/>
            <a:ext cx="3578400" cy="453960"/>
            <a:chOff x="2971800" y="5029200"/>
            <a:chExt cx="3578400" cy="453960"/>
          </a:xfrm>
        </p:grpSpPr>
        <p:sp>
          <p:nvSpPr>
            <p:cNvPr id="1035" name="AutoShape 10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AutoShape 11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7" name="Group 12"/>
          <p:cNvGrpSpPr/>
          <p:nvPr/>
        </p:nvGrpSpPr>
        <p:grpSpPr>
          <a:xfrm>
            <a:off x="2895480" y="4038480"/>
            <a:ext cx="3578400" cy="530280"/>
            <a:chOff x="2895480" y="4038480"/>
            <a:chExt cx="3578400" cy="530280"/>
          </a:xfrm>
        </p:grpSpPr>
        <p:sp>
          <p:nvSpPr>
            <p:cNvPr id="1038" name="AutoShape 13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AutoShape 14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0" name="Group 15"/>
          <p:cNvGrpSpPr/>
          <p:nvPr/>
        </p:nvGrpSpPr>
        <p:grpSpPr>
          <a:xfrm>
            <a:off x="2133720" y="2666880"/>
            <a:ext cx="1596960" cy="758880"/>
            <a:chOff x="2133720" y="2666880"/>
            <a:chExt cx="1596960" cy="758880"/>
          </a:xfrm>
        </p:grpSpPr>
        <p:sp>
          <p:nvSpPr>
            <p:cNvPr id="1041" name="AutoShape 16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AutoShape 17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Group 18"/>
          <p:cNvGrpSpPr/>
          <p:nvPr/>
        </p:nvGrpSpPr>
        <p:grpSpPr>
          <a:xfrm>
            <a:off x="5562720" y="2743200"/>
            <a:ext cx="1596960" cy="758880"/>
            <a:chOff x="5562720" y="2743200"/>
            <a:chExt cx="1596960" cy="758880"/>
          </a:xfrm>
        </p:grpSpPr>
        <p:sp>
          <p:nvSpPr>
            <p:cNvPr id="1044" name="AutoShape 19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AutoShape 20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6" name="Group 21"/>
          <p:cNvGrpSpPr/>
          <p:nvPr/>
        </p:nvGrpSpPr>
        <p:grpSpPr>
          <a:xfrm>
            <a:off x="1219320" y="1600200"/>
            <a:ext cx="1063440" cy="682560"/>
            <a:chOff x="1219320" y="1600200"/>
            <a:chExt cx="1063440" cy="682560"/>
          </a:xfrm>
        </p:grpSpPr>
        <p:sp>
          <p:nvSpPr>
            <p:cNvPr id="1047" name="AutoShape 22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AutoShape 23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9" name="Group 24"/>
          <p:cNvGrpSpPr/>
          <p:nvPr/>
        </p:nvGrpSpPr>
        <p:grpSpPr>
          <a:xfrm>
            <a:off x="2438280" y="1600200"/>
            <a:ext cx="1063800" cy="682560"/>
            <a:chOff x="2438280" y="1600200"/>
            <a:chExt cx="1063800" cy="682560"/>
          </a:xfrm>
        </p:grpSpPr>
        <p:sp>
          <p:nvSpPr>
            <p:cNvPr id="1050" name="AutoShape 25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AutoShape 26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Group 27"/>
          <p:cNvGrpSpPr/>
          <p:nvPr/>
        </p:nvGrpSpPr>
        <p:grpSpPr>
          <a:xfrm>
            <a:off x="3657600" y="1600200"/>
            <a:ext cx="1063800" cy="682560"/>
            <a:chOff x="3657600" y="1600200"/>
            <a:chExt cx="1063800" cy="682560"/>
          </a:xfrm>
        </p:grpSpPr>
        <p:sp>
          <p:nvSpPr>
            <p:cNvPr id="1053" name="AutoShape 28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AutoShape 29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Group 30"/>
          <p:cNvGrpSpPr/>
          <p:nvPr/>
        </p:nvGrpSpPr>
        <p:grpSpPr>
          <a:xfrm>
            <a:off x="5334120" y="1600200"/>
            <a:ext cx="1063440" cy="682560"/>
            <a:chOff x="5334120" y="1600200"/>
            <a:chExt cx="1063440" cy="682560"/>
          </a:xfrm>
        </p:grpSpPr>
        <p:sp>
          <p:nvSpPr>
            <p:cNvPr id="1056" name="AutoShape 31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AutoShape 32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8" name="Group 33"/>
          <p:cNvGrpSpPr/>
          <p:nvPr/>
        </p:nvGrpSpPr>
        <p:grpSpPr>
          <a:xfrm>
            <a:off x="6705720" y="1600200"/>
            <a:ext cx="1063440" cy="682560"/>
            <a:chOff x="6705720" y="1600200"/>
            <a:chExt cx="1063440" cy="682560"/>
          </a:xfrm>
        </p:grpSpPr>
        <p:sp>
          <p:nvSpPr>
            <p:cNvPr id="1059" name="AutoShape 34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AutoShape 35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1" name="Freeform 36"/>
          <p:cNvSpPr/>
          <p:nvPr/>
        </p:nvSpPr>
        <p:spPr>
          <a:xfrm>
            <a:off x="1344600" y="2379600"/>
            <a:ext cx="6411960" cy="2409840"/>
          </a:xfrm>
          <a:prstGeom prst="pie">
            <a:avLst/>
          </a:pr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Line 37"/>
          <p:cNvSpPr/>
          <p:nvPr/>
        </p:nvSpPr>
        <p:spPr>
          <a:xfrm flipV="1">
            <a:off x="1066680" y="4030200"/>
            <a:ext cx="838440" cy="1311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Line 39"/>
          <p:cNvSpPr/>
          <p:nvPr/>
        </p:nvSpPr>
        <p:spPr>
          <a:xfrm flipH="1" flipV="1">
            <a:off x="3192480" y="3497400"/>
            <a:ext cx="39672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40"/>
          <p:cNvSpPr/>
          <p:nvPr/>
        </p:nvSpPr>
        <p:spPr>
          <a:xfrm flipV="1">
            <a:off x="5410080" y="3573000"/>
            <a:ext cx="38124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41"/>
          <p:cNvSpPr/>
          <p:nvPr/>
        </p:nvSpPr>
        <p:spPr>
          <a:xfrm flipV="1">
            <a:off x="6629400" y="2354400"/>
            <a:ext cx="38088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42"/>
          <p:cNvSpPr/>
          <p:nvPr/>
        </p:nvSpPr>
        <p:spPr>
          <a:xfrm flipH="1" flipV="1">
            <a:off x="6011640" y="2354400"/>
            <a:ext cx="16812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43"/>
          <p:cNvSpPr/>
          <p:nvPr/>
        </p:nvSpPr>
        <p:spPr>
          <a:xfrm flipH="1" flipV="1">
            <a:off x="2125440" y="2277720"/>
            <a:ext cx="1681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Line 44"/>
          <p:cNvSpPr/>
          <p:nvPr/>
        </p:nvSpPr>
        <p:spPr>
          <a:xfrm flipV="1">
            <a:off x="2895480" y="2354040"/>
            <a:ext cx="180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Line 45"/>
          <p:cNvSpPr/>
          <p:nvPr/>
        </p:nvSpPr>
        <p:spPr>
          <a:xfrm flipV="1">
            <a:off x="3429000" y="2277720"/>
            <a:ext cx="30492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Line 46"/>
          <p:cNvSpPr/>
          <p:nvPr/>
        </p:nvSpPr>
        <p:spPr>
          <a:xfrm flipV="1">
            <a:off x="4648320" y="4640400"/>
            <a:ext cx="1440" cy="320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Line 47"/>
          <p:cNvSpPr/>
          <p:nvPr/>
        </p:nvSpPr>
        <p:spPr>
          <a:xfrm flipV="1">
            <a:off x="4648320" y="5478120"/>
            <a:ext cx="1440" cy="168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48"/>
          <p:cNvSpPr/>
          <p:nvPr/>
        </p:nvSpPr>
        <p:spPr>
          <a:xfrm flipH="1">
            <a:off x="6621480" y="5334120"/>
            <a:ext cx="85392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Freeform 50"/>
          <p:cNvSpPr/>
          <p:nvPr/>
        </p:nvSpPr>
        <p:spPr>
          <a:xfrm>
            <a:off x="887400" y="1157400"/>
            <a:ext cx="7292880" cy="1249200"/>
          </a:xfrm>
          <a:prstGeom prst="pie">
            <a:avLst/>
          </a:pr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51"/>
          <p:cNvSpPr/>
          <p:nvPr/>
        </p:nvSpPr>
        <p:spPr>
          <a:xfrm flipV="1">
            <a:off x="609480" y="2277720"/>
            <a:ext cx="609840" cy="6253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Text Box 52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1" name="Group 4"/>
          <p:cNvGrpSpPr/>
          <p:nvPr/>
        </p:nvGrpSpPr>
        <p:grpSpPr>
          <a:xfrm>
            <a:off x="6934320" y="4114800"/>
            <a:ext cx="1596960" cy="1901880"/>
            <a:chOff x="6934320" y="4114800"/>
            <a:chExt cx="1596960" cy="1901880"/>
          </a:xfrm>
        </p:grpSpPr>
        <p:sp>
          <p:nvSpPr>
            <p:cNvPr id="1082" name="AutoShape 5"/>
            <p:cNvSpPr/>
            <p:nvPr/>
          </p:nvSpPr>
          <p:spPr>
            <a:xfrm>
              <a:off x="6934320" y="4114800"/>
              <a:ext cx="1596960" cy="1901880"/>
            </a:xfrm>
            <a:custGeom>
              <a:avLst/>
              <a:gdLst>
                <a:gd name="textAreaLeft" fmla="*/ 360 w 1596960"/>
                <a:gd name="textAreaRight" fmla="*/ 1596600 w 159696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5723">
                  <a:moveTo>
                    <a:pt x="21" y="0"/>
                  </a:moveTo>
                  <a:arcTo wR="21" hR="21" stAng="16200000" swAng="-5400000"/>
                  <a:lnTo>
                    <a:pt x="0" y="25702"/>
                  </a:lnTo>
                  <a:arcTo wR="21" hR="21" stAng="10800000" swAng="-5400000"/>
                  <a:lnTo>
                    <a:pt x="21579" y="2572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AutoShape 6"/>
            <p:cNvSpPr/>
            <p:nvPr/>
          </p:nvSpPr>
          <p:spPr>
            <a:xfrm>
              <a:off x="6934320" y="4114800"/>
              <a:ext cx="1596960" cy="1901880"/>
            </a:xfrm>
            <a:custGeom>
              <a:avLst/>
              <a:gdLst>
                <a:gd name="textAreaLeft" fmla="*/ 360 w 1596960"/>
                <a:gd name="textAreaRight" fmla="*/ 1596600 w 159696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5723">
                  <a:moveTo>
                    <a:pt x="21" y="0"/>
                  </a:moveTo>
                  <a:arcTo wR="21" hR="21" stAng="16200000" swAng="-5400000"/>
                  <a:lnTo>
                    <a:pt x="0" y="25702"/>
                  </a:lnTo>
                  <a:arcTo wR="21" hR="21" stAng="10800000" swAng="-5400000"/>
                  <a:lnTo>
                    <a:pt x="21579" y="2572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4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Line 8"/>
          <p:cNvSpPr/>
          <p:nvPr/>
        </p:nvSpPr>
        <p:spPr>
          <a:xfrm flipH="1" flipV="1">
            <a:off x="3344760" y="2583000"/>
            <a:ext cx="3292560" cy="1387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Line 11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Text Box 2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Mozilla, Ie, Konqueror, ..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tame telnet ühenduse masina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ijkstra.cs.ttu.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orti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ipime sisse, seejärel tipime kaks reavahe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index.html HTTP/1.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Text Box 2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reeform 3"/>
          <p:cNvSpPr/>
          <p:nvPr/>
        </p:nvSpPr>
        <p:spPr>
          <a:xfrm>
            <a:off x="609480" y="1905120"/>
            <a:ext cx="228600" cy="2622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AutoShape 4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380880" y="4800600"/>
            <a:ext cx="609840" cy="465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reeform 7"/>
          <p:cNvSpPr/>
          <p:nvPr/>
        </p:nvSpPr>
        <p:spPr>
          <a:xfrm>
            <a:off x="7924680" y="5148360"/>
            <a:ext cx="609840" cy="1371600"/>
          </a:xfrm>
          <a:prstGeom prst="pie">
            <a:avLst/>
          </a:pr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AutoShape 8"/>
          <p:cNvSpPr/>
          <p:nvPr/>
        </p:nvSpPr>
        <p:spPr>
          <a:xfrm>
            <a:off x="7903080" y="420696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366560" y="195120"/>
            <a:ext cx="6670440" cy="9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Nimed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0" name="Text Box 2"/>
          <p:cNvSpPr/>
          <p:nvPr/>
        </p:nvSpPr>
        <p:spPr>
          <a:xfrm>
            <a:off x="838080" y="1066680"/>
            <a:ext cx="78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namikul avalikel serveritel  on DNS ni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googl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rveril on IP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3.40.254.28 – neli täisarvu 0-2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4294967296 unikaalset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e on seotud tema füüsilise asukohaga võr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akettide marsruutimine käib IP aadressi jär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DNS nimede ja IP aadresside teisendust teeb DNS tee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Pv6 aadres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2001:0db8:85a3:0000:0000:8a2e:0370:7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340282366920938463463374607431768211456 aadre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l on tavaliselt Etherneti (MAC )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kohtvõrgu pi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78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õltub võrguliides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 www.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tu.e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.ttu.ee   &lt;--&gt;     193.40.254.1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62120" y="0"/>
            <a:ext cx="812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68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6087960" y="3033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2533680" y="1981080"/>
            <a:ext cx="1044720" cy="368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642348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4411440" y="2209680"/>
            <a:ext cx="1920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3680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556560" y="4724280"/>
            <a:ext cx="5459040" cy="1487520"/>
            <a:chOff x="556560" y="4724280"/>
            <a:chExt cx="5459040" cy="1487520"/>
          </a:xfrm>
        </p:grpSpPr>
        <p:sp>
          <p:nvSpPr>
            <p:cNvPr id="80" name="AutoShape 16"/>
            <p:cNvSpPr/>
            <p:nvPr/>
          </p:nvSpPr>
          <p:spPr>
            <a:xfrm>
              <a:off x="609480" y="4724280"/>
              <a:ext cx="5311800" cy="14875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17"/>
            <p:cNvSpPr/>
            <p:nvPr/>
          </p:nvSpPr>
          <p:spPr>
            <a:xfrm>
              <a:off x="55656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Text Box 2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2012 novembris oli registreeritud ca 200 000 000 domeenin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ailmas on ca 20 miljonit DNS server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on “DNS hiearhia” ülemiste, nn root serverite asukoh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5" name="Picture 3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1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 nimede pu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2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Picture 3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110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Group 29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137" name="AutoShape 30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AutoShape 31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Line 32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Freeform 33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Line 36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AutoShape 37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AutoShape 38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AutoShape 39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AutoShape 40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AutoShape 41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AutoShape 42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AutoShape 43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AutoShape 44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AutoShape 45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AutoShape 46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Oval 47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Oval 48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Freeform 49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AutoShape 50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AutoShape 51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AutoShape 52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AutoShape 53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AutoShape 54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AutoShape 55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3" name="Group 56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164" name="Line 57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Line 58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Line 59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Line 60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Line 61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Line 62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Line 63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Line 64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Line 65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Line 66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Line 67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Line 68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Line 69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Line 70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Line 71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Line 72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Line 73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Line 74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75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76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AutoShape 77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AutoShape 78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AutoShape 79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AutoShape 80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AutoShape 81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9" name="Group 82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190" name="Line 83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84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85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86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87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88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89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90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91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92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93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94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95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96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97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98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99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100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101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102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AutoShape 103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AutoShape 104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AutoShape 105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AutoShape 106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AutoShape 107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Group 108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216" name="Line 109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110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111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112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113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114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115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116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117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118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119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120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121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122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123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124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125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126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127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128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AutoShape 129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Freeform 130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AutoShape 131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Freeform 132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0" name="Line 133"/>
          <p:cNvSpPr/>
          <p:nvPr/>
        </p:nvSpPr>
        <p:spPr>
          <a:xfrm flipV="1">
            <a:off x="1751040" y="3673080"/>
            <a:ext cx="635040" cy="841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1" name="Group 134"/>
          <p:cNvGrpSpPr/>
          <p:nvPr/>
        </p:nvGrpSpPr>
        <p:grpSpPr>
          <a:xfrm>
            <a:off x="2227320" y="4343400"/>
            <a:ext cx="2344680" cy="1057320"/>
            <a:chOff x="2227320" y="4343400"/>
            <a:chExt cx="2344680" cy="1057320"/>
          </a:xfrm>
        </p:grpSpPr>
        <p:sp>
          <p:nvSpPr>
            <p:cNvPr id="1242" name="Freeform 135"/>
            <p:cNvSpPr/>
            <p:nvPr/>
          </p:nvSpPr>
          <p:spPr>
            <a:xfrm>
              <a:off x="2227320" y="4343400"/>
              <a:ext cx="2344680" cy="10573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Text Box 136"/>
            <p:cNvSpPr/>
            <p:nvPr/>
          </p:nvSpPr>
          <p:spPr>
            <a:xfrm>
              <a:off x="2473920" y="4553640"/>
              <a:ext cx="199836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rvut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ma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6" name="Text Box 1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Text Box 14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249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nn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 mis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lline vastus on tüüpi “referral”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7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8" name="Group 33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279" name="AutoShape 34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AutoShape 35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Line 36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Freeform 37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Freeform 38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Freeform 39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AutoShape 41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AutoShape 42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AutoShape 43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AutoShape 44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AutoShape 45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AutoShape 46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AutoShape 47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AutoShape 48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AutoShape 49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AutoShape 50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Oval 51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Oval 52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Freeform 53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AutoShape 54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AutoShape 55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AutoShape 56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AutoShape 57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AutoShape 58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AutoShape 59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5" name="Group 60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306" name="Line 61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Line 62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Line 63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Line 64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Line 65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Line 66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Line 67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Line 68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Line 69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Line 70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Line 71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Line 72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Line 73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Line 74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Line 75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Line 76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Line 77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Line 78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79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80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AutoShape 81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AutoShape 82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AutoShape 83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AutoShape 84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AutoShape 85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1" name="Group 86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332" name="Line 87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88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89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90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91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92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93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94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95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96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97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98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99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100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101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102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103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104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105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106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AutoShape 107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AutoShape 108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AutoShape 109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AutoShape 110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AutoShape 111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7" name="Group 112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358" name="Line 113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114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115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116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117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118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119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120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121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122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123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124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125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126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127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128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129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130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131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132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AutoShape 133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Freeform 134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AutoShape 135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Freeform 136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2" name="Text Box 137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3" name="Group 138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384" name="AutoShape 139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AutoShape 140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Line 141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Freeform 142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Freeform 143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Freeform 144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Line 145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AutoShape 146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AutoShape 147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AutoShape 148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AutoShape 149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AutoShape 150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AutoShape 151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AutoShape 152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AutoShape 153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AutoShape 154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AutoShape 155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Oval 156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Oval 157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158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AutoShape 159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AutoShape 160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AutoShape 161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AutoShape 162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AutoShape 163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AutoShape 164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0" name="Group 165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411" name="Line 166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167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168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169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170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171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172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173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74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75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Line 176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Line 177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Line 178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Line 179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Line 180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Line 181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Line 182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Line 183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Line 184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Line 185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AutoShape 186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AutoShape 187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AutoShape 190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6" name="Group 191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437" name="Line 192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Line 193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Line 194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Line 195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Line 196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Line 197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Line 198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Line 199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Line 200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Line 201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Line 202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Line 203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Line 204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Line 205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Line 206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Line 207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Line 208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Line 209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Line 210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Line 211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7" name="AutoShape 212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AutoShape 213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AutoShape 214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AutoShape 215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AutoShape 216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2" name="Group 217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463" name="Line 218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Line 219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Line 220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221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222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223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224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225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226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227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228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229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230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231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232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233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234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235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36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37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AutoShape 238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Freeform 239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AutoShape 240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Freeform 241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7" name="Text Box 242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8" name="Group 243"/>
          <p:cNvGrpSpPr/>
          <p:nvPr/>
        </p:nvGrpSpPr>
        <p:grpSpPr>
          <a:xfrm>
            <a:off x="6781680" y="3581280"/>
            <a:ext cx="2149560" cy="1055880"/>
            <a:chOff x="6781680" y="3581280"/>
            <a:chExt cx="2149560" cy="1055880"/>
          </a:xfrm>
        </p:grpSpPr>
        <p:sp>
          <p:nvSpPr>
            <p:cNvPr id="1489" name="Freeform 244"/>
            <p:cNvSpPr/>
            <p:nvPr/>
          </p:nvSpPr>
          <p:spPr>
            <a:xfrm>
              <a:off x="6781680" y="3581280"/>
              <a:ext cx="2149560" cy="105588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Text Box 245"/>
            <p:cNvSpPr/>
            <p:nvPr/>
          </p:nvSpPr>
          <p:spPr>
            <a:xfrm>
              <a:off x="7006680" y="3791160"/>
              <a:ext cx="18342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1" name="Line 246"/>
          <p:cNvSpPr/>
          <p:nvPr/>
        </p:nvSpPr>
        <p:spPr>
          <a:xfrm flipV="1">
            <a:off x="3409920" y="25887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493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.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1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2" name="Group 33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523" name="AutoShape 34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AutoShape 35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Line 36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37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Freeform 38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Freeform 39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Line 40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AutoShape 41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AutoShape 42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AutoShape 43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AutoShape 44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AutoShape 45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AutoShape 46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AutoShape 47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AutoShape 48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AutoShape 49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AutoShape 50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Oval 51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Oval 52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Freeform 53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AutoShape 54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AutoShape 55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AutoShape 56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AutoShape 57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AutoShape 58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AutoShape 59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9" name="Group 60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550" name="Line 61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62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63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64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65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66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67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68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69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70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71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72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73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Line 74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Line 75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Line 76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Line 77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Line 78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Line 79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Line 80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AutoShape 81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AutoShape 82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AutoShape 83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AutoShape 84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AutoShape 85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5" name="Group 86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576" name="Line 87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Line 88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Line 89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Line 90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Line 91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Line 92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Line 93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Line 94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Line 95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Line 96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Line 97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Line 98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Line 99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Line 100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Line 101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Line 102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Line 103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Line 104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Line 105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Line 106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AutoShape 107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AutoShape 108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AutoShape 109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AutoShape 110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AutoShape 111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1" name="Group 112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602" name="Line 113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Line 114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Line 115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Line 116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Line 117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Line 118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119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120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121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122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123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24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25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6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27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28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29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30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31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32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AutoShape 133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Freeform 134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AutoShape 135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Freeform 136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6" name="Text Box 137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7" name="Group 138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628" name="AutoShape 139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AutoShape 140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Line 141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Freeform 142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Freeform 143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Freeform 144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Line 145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AutoShape 146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AutoShape 147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AutoShape 148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AutoShape 149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AutoShape 150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AutoShape 151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AutoShape 152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AutoShape 153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AutoShape 154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AutoShape 155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Oval 156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Oval 157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Freeform 158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AutoShape 159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AutoShape 160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AutoShape 161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AutoShape 162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AutoShape 163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AutoShape 164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4" name="Group 165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655" name="Line 166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167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168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169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170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171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172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173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174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175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176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177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178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179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180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181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182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183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184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185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AutoShape 186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AutoShape 187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AutoShape 188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AutoShape 189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AutoShape 190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0" name="Group 191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681" name="Line 192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193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194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195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196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197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198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199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200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201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202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203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204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205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206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207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208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209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210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211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AutoShape 212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AutoShape 213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AutoShape 214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AutoShape 215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AutoShape 216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6" name="Group 217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707" name="Line 218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Line 219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Line 220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Line 221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Line 222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Line 223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Line 224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Line 225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Line 226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Line 227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Line 228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Line 229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Line 230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Line 231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Line 232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Line 233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Line 234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Line 235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Line 236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Line 237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7" name="AutoShape 238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Freeform 239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AutoShape 240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Freeform 241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1" name="Text Box 242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Line 243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3" name="Group 244"/>
          <p:cNvGrpSpPr/>
          <p:nvPr/>
        </p:nvGrpSpPr>
        <p:grpSpPr>
          <a:xfrm>
            <a:off x="3406680" y="2421000"/>
            <a:ext cx="2343240" cy="1055520"/>
            <a:chOff x="3406680" y="2421000"/>
            <a:chExt cx="2343240" cy="1055520"/>
          </a:xfrm>
        </p:grpSpPr>
        <p:sp>
          <p:nvSpPr>
            <p:cNvPr id="1734" name="Freeform 245"/>
            <p:cNvSpPr/>
            <p:nvPr/>
          </p:nvSpPr>
          <p:spPr>
            <a:xfrm>
              <a:off x="3406680" y="2421000"/>
              <a:ext cx="2343240" cy="10555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Text Box 246"/>
            <p:cNvSpPr/>
            <p:nvPr/>
          </p:nvSpPr>
          <p:spPr>
            <a:xfrm>
              <a:off x="3652200" y="2522880"/>
              <a:ext cx="19998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6" name="Group 247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737" name="AutoShape 248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AutoShape 249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Line 250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Freeform 251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Freeform 252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Freeform 253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Line 254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AutoShape 255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AutoShape 256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AutoShape 257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AutoShape 258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AutoShape 259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AutoShape 260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AutoShape 261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AutoShape 262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AutoShape 263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AutoShape 264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Oval 265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Oval 266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Freeform 267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AutoShape 268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AutoShape 269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AutoShape 270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AutoShape 271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AutoShape 272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AutoShape 273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3" name="Group 274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764" name="Line 275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76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77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78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79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80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81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82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83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4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85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286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287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288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289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290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291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292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293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294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4" name="AutoShape 295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AutoShape 296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AutoShape 297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AutoShape 298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AutoShape 299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9" name="Group 300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790" name="Line 301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302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303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304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305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306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307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308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309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310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311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312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313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314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315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316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317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318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319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320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0" name="AutoShape 321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AutoShape 322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AutoShape 323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AutoShape 324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AutoShape 325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5" name="Group 326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816" name="Line 327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328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329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330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331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332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333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334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335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336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337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338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339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340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341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342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343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344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345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346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AutoShape 347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Freeform 348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AutoShape 349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Freeform 350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0" name="Text Box 35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1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842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8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869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5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896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6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1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922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2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7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948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8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teat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-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meeni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 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d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4" name="Text Box 136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Text Box 137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6" name="Group 138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977" name="AutoShape 139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AutoShape 140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Line 141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Freeform 142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Freeform 143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Freeform 144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Line 145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AutoShape 146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AutoShape 147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AutoShape 148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AutoShape 149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AutoShape 150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AutoShape 151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AutoShape 152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AutoShape 153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AutoShape 154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AutoShape 155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Oval 156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Oval 157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Freeform 158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AutoShape 159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AutoShape 160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AutoShape 161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AutoShape 162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AutoShape 163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AutoShape 164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3" name="Group 165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004" name="Line 166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Line 167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Line 168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Line 169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Line 170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Line 171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Line 172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Line 173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Line 174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Line 175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Line 176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Line 177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Line 178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Line 179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Line 180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Line 181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Line 182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Line 183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Line 184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Line 185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4" name="AutoShape 186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AutoShape 187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AutoShape 188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AutoShape 189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AutoShape 190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9" name="Group 191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030" name="Line 192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Line 193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Line 194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Line 195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196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197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198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199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200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201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202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203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204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205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206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207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208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209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210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11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AutoShape 212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AutoShape 213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AutoShape 214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AutoShape 215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AutoShape 216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5" name="Group 217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056" name="Line 218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19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20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221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222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223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224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225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226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227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228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229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230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231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232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233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234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235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236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237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6" name="AutoShape 238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Freeform 239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AutoShape 240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Freeform 241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0" name="Text Box 242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1" name="Group 243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082" name="AutoShape 244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AutoShape 245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Line 246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Freeform 247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Freeform 248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Freeform 249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Line 250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AutoShape 251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AutoShape 252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AutoShape 253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AutoShape 254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AutoShape 255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AutoShape 256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AutoShape 257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AutoShape 258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AutoShape 259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AutoShape 260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Oval 261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Oval 262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Freeform 263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AutoShape 264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AutoShape 265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AutoShape 266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AutoShape 267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AutoShape 268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AutoShape 269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8" name="Group 270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109" name="Line 271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272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273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274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275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276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277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278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279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280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281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282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283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284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285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286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287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288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289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290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9" name="AutoShape 291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AutoShape 292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AutoShape 293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AutoShape 294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AutoShape 295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4" name="Group 296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135" name="Line 297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Line 298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Line 299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Line 300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Line 301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Line 302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Line 303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Line 304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Line 305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Line 306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Line 307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Line 308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Line 309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Line 310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Line 311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Line 312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Line 313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Line 314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Line 315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Line 316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5" name="AutoShape 317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AutoShape 318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AutoShape 319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AutoShape 320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AutoShape 321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0" name="Group 322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161" name="Line 323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Line 324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Line 325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Line 326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Line 327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Line 328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Line 329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Line 330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Line 331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Line 332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Line 333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Line 334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Line 335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Line 336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337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338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339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340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341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342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AutoShape 343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Freeform 344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AutoShape 345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Freeform 346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5" name="Text Box 347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Line 348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7" name="Group 349"/>
          <p:cNvGrpSpPr/>
          <p:nvPr/>
        </p:nvGrpSpPr>
        <p:grpSpPr>
          <a:xfrm>
            <a:off x="6934320" y="2440080"/>
            <a:ext cx="1981080" cy="1522080"/>
            <a:chOff x="6934320" y="2440080"/>
            <a:chExt cx="1981080" cy="1522080"/>
          </a:xfrm>
        </p:grpSpPr>
        <p:sp>
          <p:nvSpPr>
            <p:cNvPr id="2188" name="Freeform 350"/>
            <p:cNvSpPr/>
            <p:nvPr/>
          </p:nvSpPr>
          <p:spPr>
            <a:xfrm>
              <a:off x="6934320" y="2440080"/>
              <a:ext cx="1981080" cy="152208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Text Box 351"/>
            <p:cNvSpPr/>
            <p:nvPr/>
          </p:nvSpPr>
          <p:spPr>
            <a:xfrm>
              <a:off x="7141680" y="2586960"/>
              <a:ext cx="169056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0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191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7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218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4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245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0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271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1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6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297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1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322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8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349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9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4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375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0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401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küsi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lt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rveri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7" name="Text Box 2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Text Box 24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9" name="Group 242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430" name="AutoShape 243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AutoShape 244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Line 245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Freeform 246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Freeform 247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Freeform 248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Line 249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AutoShape 250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AutoShape 251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AutoShape 252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AutoShape 253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AutoShape 254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AutoShape 255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AutoShape 256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AutoShape 257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AutoShape 258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AutoShape 259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Oval 260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Oval 261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Freeform 262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AutoShape 263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AutoShape 264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AutoShape 265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AutoShape 266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AutoShape 267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AutoShape 268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6" name="Group 269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457" name="Line 270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271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272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273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274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275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276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277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278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279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280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281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282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283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284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285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286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287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288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289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AutoShape 290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AutoShape 291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AutoShape 292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AutoShape 293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AutoShape 294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2" name="Group 295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483" name="Line 296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297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298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299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300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301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Line 302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Line 303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Line 304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Line 305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Line 306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Line 307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Line 308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Line 309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Line 310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Line 311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Line 312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Line 313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314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315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AutoShape 316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AutoShape 317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AutoShape 318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AutoShape 319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AutoShape 320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8" name="Group 321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509" name="Line 322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323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324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325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326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327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328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329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330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331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332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333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334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335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336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337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338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339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40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41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AutoShape 342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Freeform 343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AutoShape 344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Freeform 345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3" name="Text Box 346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4" name="Group 347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535" name="AutoShape 348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AutoShape 349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Line 350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Freeform 351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Freeform 352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Freeform 353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Line 354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AutoShape 355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AutoShape 356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AutoShape 357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AutoShape 358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AutoShape 359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AutoShape 360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AutoShape 361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AutoShape 362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AutoShape 363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AutoShape 364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Oval 365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Oval 366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Freeform 367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AutoShape 368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AutoShape 369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AutoShape 370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AutoShape 371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AutoShape 372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AutoShape 373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1" name="Group 374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562" name="Line 375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376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377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378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379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380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381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382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383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384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385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386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387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388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389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390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391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392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393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394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2" name="AutoShape 395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AutoShape 396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AutoShape 397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AutoShape 398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AutoShape 399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7" name="Group 400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588" name="Line 401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402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403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404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405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406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407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408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Line 409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Line 410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Line 411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Line 412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Line 413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Line 414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Line 415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Line 416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Line 417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Line 418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Line 419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Line 420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8" name="AutoShape 421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AutoShape 422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AutoShape 423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AutoShape 424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AutoShape 425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3" name="Group 426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614" name="Line 427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428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429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430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431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432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433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434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435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436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437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438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439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440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441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442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443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444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445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446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4" name="AutoShape 447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Freeform 448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AutoShape 449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Freeform 450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8" name="Text Box 45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Text Box 452"/>
          <p:cNvSpPr/>
          <p:nvPr/>
        </p:nvSpPr>
        <p:spPr>
          <a:xfrm>
            <a:off x="43945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0" name="Group 453"/>
          <p:cNvGrpSpPr/>
          <p:nvPr/>
        </p:nvGrpSpPr>
        <p:grpSpPr>
          <a:xfrm>
            <a:off x="3333600" y="2440080"/>
            <a:ext cx="2341800" cy="1055520"/>
            <a:chOff x="3333600" y="2440080"/>
            <a:chExt cx="2341800" cy="1055520"/>
          </a:xfrm>
        </p:grpSpPr>
        <p:sp>
          <p:nvSpPr>
            <p:cNvPr id="2641" name="Freeform 454"/>
            <p:cNvSpPr/>
            <p:nvPr/>
          </p:nvSpPr>
          <p:spPr>
            <a:xfrm>
              <a:off x="3333600" y="2440080"/>
              <a:ext cx="2341800" cy="105552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Text Box 455"/>
            <p:cNvSpPr/>
            <p:nvPr/>
          </p:nvSpPr>
          <p:spPr>
            <a:xfrm>
              <a:off x="3578760" y="2541960"/>
              <a:ext cx="199836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3" name="Line 456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645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1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672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8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699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9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4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725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0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751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1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5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776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2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803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3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8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829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9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4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855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5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aadab vastusek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1" name="Text Box 240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Text Box 241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3" name="Group 242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884" name="AutoShape 243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AutoShape 244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Line 245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Freeform 246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Freeform 247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Freeform 248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Line 249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AutoShape 250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AutoShape 251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AutoShape 252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AutoShape 253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AutoShape 254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AutoShape 255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AutoShape 256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AutoShape 257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AutoShape 258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AutoShape 259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Oval 260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Oval 261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Freeform 262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AutoShape 263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AutoShape 264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AutoShape 265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AutoShape 266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AutoShape 267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AutoShape 268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0" name="Group 269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911" name="Line 270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271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272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273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274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275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276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277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278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279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280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281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282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283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284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285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286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287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288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289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1" name="AutoShape 290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AutoShape 291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AutoShape 292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AutoShape 293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AutoShape 294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6" name="Group 295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937" name="Line 296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297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298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299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Line 300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Line 301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Line 302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Line 303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Line 304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Line 305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Line 306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Line 307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Line 308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Line 309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Line 310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Line 311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Line 312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Line 313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Line 314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Line 315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7" name="AutoShape 316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AutoShape 317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AutoShape 318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AutoShape 319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AutoShape 320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2" name="Group 321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963" name="Line 322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323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324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325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326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327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328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329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330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331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332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333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334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335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336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337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338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339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340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341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3" name="AutoShape 342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Freeform 343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AutoShape 344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Freeform 345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7" name="Text Box 346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8" name="Group 347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989" name="AutoShape 348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AutoShape 349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Line 350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Freeform 351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Freeform 352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Freeform 353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Line 354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AutoShape 355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AutoShape 356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AutoShape 357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AutoShape 358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AutoShape 359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AutoShape 360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AutoShape 361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AutoShape 362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AutoShape 363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AutoShape 364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Oval 365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Oval 366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Freeform 367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AutoShape 368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AutoShape 369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AutoShape 370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AutoShape 371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AutoShape 372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AutoShape 373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5" name="Group 374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016" name="Line 375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376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377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378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379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380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381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382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383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384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385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386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387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388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389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390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391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392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393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394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6" name="AutoShape 395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AutoShape 396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AutoShape 397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AutoShape 398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AutoShape 399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1" name="Group 400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042" name="Line 401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402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403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404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405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406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407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408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409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410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411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412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413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414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Line 415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Line 416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Line 417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Line 418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Line 419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Line 420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2" name="AutoShape 421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AutoShape 422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AutoShape 423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AutoShape 424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AutoShape 425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7" name="Group 426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068" name="Line 427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Line 428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Line 429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Line 430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Line 431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432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433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434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435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436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437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438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439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440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441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442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443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444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445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446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88" name="AutoShape 447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Freeform 448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AutoShape 449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Freeform 450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2" name="Text Box 451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Text Box 452"/>
          <p:cNvSpPr/>
          <p:nvPr/>
        </p:nvSpPr>
        <p:spPr>
          <a:xfrm>
            <a:off x="43945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4" name="Group 453"/>
          <p:cNvGrpSpPr/>
          <p:nvPr/>
        </p:nvGrpSpPr>
        <p:grpSpPr>
          <a:xfrm>
            <a:off x="2209680" y="4495680"/>
            <a:ext cx="2198880" cy="1011240"/>
            <a:chOff x="2209680" y="4495680"/>
            <a:chExt cx="2198880" cy="1011240"/>
          </a:xfrm>
        </p:grpSpPr>
        <p:sp>
          <p:nvSpPr>
            <p:cNvPr id="3095" name="Freeform 454"/>
            <p:cNvSpPr/>
            <p:nvPr/>
          </p:nvSpPr>
          <p:spPr>
            <a:xfrm>
              <a:off x="2209680" y="4495680"/>
              <a:ext cx="2198880" cy="101124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Text Box 455"/>
            <p:cNvSpPr/>
            <p:nvPr/>
          </p:nvSpPr>
          <p:spPr>
            <a:xfrm>
              <a:off x="2390040" y="4695840"/>
              <a:ext cx="1875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7" name="Line 456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8" name="Group 2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099" name="AutoShape 3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Freeform 4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Freeform 5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Freeform 6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Freeform 7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Freeform 8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AutoShape 9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AutoShape 10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AutoShape 11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AutoShape 12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AutoShape 13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AutoShape 14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Line 15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Line 16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AutoShape 17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Freeform 18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Freeform 19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Freeform 20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Freeform 21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Freeform 22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Freeform 23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Freeform 24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AutoShape 25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AutoShape 26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AutoShape 27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AutoShape 28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5" name="Group 29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3126" name="AutoShape 30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AutoShape 31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Line 32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Freeform 33"/>
            <p:cNvSpPr/>
            <p:nvPr/>
          </p:nvSpPr>
          <p:spPr>
            <a:xfrm>
              <a:off x="6819120" y="4123080"/>
              <a:ext cx="557640" cy="1015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Freeform 34"/>
            <p:cNvSpPr/>
            <p:nvPr/>
          </p:nvSpPr>
          <p:spPr>
            <a:xfrm>
              <a:off x="6784560" y="4119120"/>
              <a:ext cx="2556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Freeform 35"/>
            <p:cNvSpPr/>
            <p:nvPr/>
          </p:nvSpPr>
          <p:spPr>
            <a:xfrm>
              <a:off x="7381440" y="4119120"/>
              <a:ext cx="2844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Line 36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AutoShape 37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AutoShape 38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AutoShape 39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AutoShape 40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AutoShape 41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AutoShape 42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AutoShape 43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AutoShape 44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AutoShape 45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AutoShape 46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Oval 47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Oval 48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Freeform 49"/>
            <p:cNvSpPr/>
            <p:nvPr/>
          </p:nvSpPr>
          <p:spPr>
            <a:xfrm>
              <a:off x="6834960" y="4186080"/>
              <a:ext cx="117000" cy="22932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AutoShape 50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AutoShape 51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AutoShape 52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AutoShape 53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AutoShape 54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AutoShape 55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2" name="Group 56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3153" name="Line 57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58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59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60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61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62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63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64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65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66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67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Line 68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Line 69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Line 70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Line 71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Line 72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Line 73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Line 74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Line 75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Line 76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3" name="AutoShape 77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AutoShape 78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AutoShape 79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AutoShape 80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AutoShape 81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8" name="Group 82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3179" name="Line 83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Line 84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Line 85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Line 86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87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88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89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90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91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92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93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94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95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96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97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98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99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100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101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102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9" name="AutoShape 103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AutoShape 104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AutoShape 105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AutoShape 106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AutoShape 107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4" name="Group 108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3205" name="Line 109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110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111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112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113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114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115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116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117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118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119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120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121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122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123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124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125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126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127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128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AutoShape 129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Freeform 130"/>
            <p:cNvSpPr/>
            <p:nvPr/>
          </p:nvSpPr>
          <p:spPr>
            <a:xfrm>
              <a:off x="6834960" y="445176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AutoShape 131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Freeform 132"/>
            <p:cNvSpPr/>
            <p:nvPr/>
          </p:nvSpPr>
          <p:spPr>
            <a:xfrm>
              <a:off x="6834960" y="449532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9" name="Group 133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3230" name="AutoShape 134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AutoShape 135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Line 136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Freeform 137"/>
            <p:cNvSpPr/>
            <p:nvPr/>
          </p:nvSpPr>
          <p:spPr>
            <a:xfrm>
              <a:off x="4588560" y="3707280"/>
              <a:ext cx="558000" cy="1016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Freeform 138"/>
            <p:cNvSpPr/>
            <p:nvPr/>
          </p:nvSpPr>
          <p:spPr>
            <a:xfrm>
              <a:off x="4554000" y="3702960"/>
              <a:ext cx="2556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Freeform 139"/>
            <p:cNvSpPr/>
            <p:nvPr/>
          </p:nvSpPr>
          <p:spPr>
            <a:xfrm>
              <a:off x="5152680" y="3702960"/>
              <a:ext cx="28440" cy="1018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Line 140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AutoShape 141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AutoShape 142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AutoShape 143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AutoShape 144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AutoShape 145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AutoShape 146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AutoShape 147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AutoShape 148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AutoShape 149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AutoShape 150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Oval 151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Oval 152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Freeform 153"/>
            <p:cNvSpPr/>
            <p:nvPr/>
          </p:nvSpPr>
          <p:spPr>
            <a:xfrm>
              <a:off x="4604400" y="3771720"/>
              <a:ext cx="117000" cy="2282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AutoShape 154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AutoShape 155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AutoShape 156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AutoShape 157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AutoShape 158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AutoShape 159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6" name="Group 160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3257" name="Line 161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162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163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164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165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166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167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168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169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170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171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172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173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174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175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176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Line 177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Line 178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Line 179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Line 180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7" name="AutoShape 181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AutoShape 182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9" name="AutoShape 183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AutoShape 184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AutoShape 185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2" name="Group 186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3283" name="Line 187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Line 188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Line 189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Line 190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Line 191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Line 192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Line 193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Line 194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195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196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197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198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199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200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201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202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203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204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205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206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AutoShape 207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4" name="AutoShape 208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5" name="AutoShape 209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AutoShape 210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AutoShape 211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8" name="Group 212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3309" name="Line 213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214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215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216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217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218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219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220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221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222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223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224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225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226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227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228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229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230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231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232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AutoShape 233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Freeform 234"/>
            <p:cNvSpPr/>
            <p:nvPr/>
          </p:nvSpPr>
          <p:spPr>
            <a:xfrm>
              <a:off x="4604400" y="4036680"/>
              <a:ext cx="10080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AutoShape 235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Freeform 236"/>
            <p:cNvSpPr/>
            <p:nvPr/>
          </p:nvSpPr>
          <p:spPr>
            <a:xfrm>
              <a:off x="4604400" y="4080240"/>
              <a:ext cx="1458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3" name="Group 237"/>
          <p:cNvGrpSpPr/>
          <p:nvPr/>
        </p:nvGrpSpPr>
        <p:grpSpPr>
          <a:xfrm>
            <a:off x="3370320" y="2486160"/>
            <a:ext cx="2197080" cy="1009440"/>
            <a:chOff x="3370320" y="2486160"/>
            <a:chExt cx="2197080" cy="1009440"/>
          </a:xfrm>
        </p:grpSpPr>
        <p:sp>
          <p:nvSpPr>
            <p:cNvPr id="3334" name="Freeform 238"/>
            <p:cNvSpPr/>
            <p:nvPr/>
          </p:nvSpPr>
          <p:spPr>
            <a:xfrm>
              <a:off x="3370320" y="2486160"/>
              <a:ext cx="2197080" cy="1009440"/>
            </a:xfrm>
            <a:prstGeom prst="pie">
              <a:avLst/>
            </a:pr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Text Box 239"/>
            <p:cNvSpPr/>
            <p:nvPr/>
          </p:nvSpPr>
          <p:spPr>
            <a:xfrm>
              <a:off x="3600720" y="2582640"/>
              <a:ext cx="1873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6" name="Line 240"/>
          <p:cNvSpPr/>
          <p:nvPr/>
        </p:nvSpPr>
        <p:spPr>
          <a:xfrm flipV="1">
            <a:off x="1817640" y="3672000"/>
            <a:ext cx="571680" cy="7747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imeserver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astab masinal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nni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ja saad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aadres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9" name="Text Box 244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Text Box 245"/>
          <p:cNvSpPr/>
          <p:nvPr/>
        </p:nvSpPr>
        <p:spPr>
          <a:xfrm>
            <a:off x="6396120" y="5334120"/>
            <a:ext cx="1230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1" name="Group 246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3342" name="AutoShape 247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3" name="AutoShape 248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4" name="Line 249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Freeform 250"/>
            <p:cNvSpPr/>
            <p:nvPr/>
          </p:nvSpPr>
          <p:spPr>
            <a:xfrm>
              <a:off x="6023520" y="2465640"/>
              <a:ext cx="55836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Freeform 251"/>
            <p:cNvSpPr/>
            <p:nvPr/>
          </p:nvSpPr>
          <p:spPr>
            <a:xfrm>
              <a:off x="5988960" y="2459880"/>
              <a:ext cx="2592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Freeform 252"/>
            <p:cNvSpPr/>
            <p:nvPr/>
          </p:nvSpPr>
          <p:spPr>
            <a:xfrm>
              <a:off x="6586200" y="2459880"/>
              <a:ext cx="28440" cy="1019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Line 253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AutoShape 254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AutoShape 255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AutoShape 256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AutoShape 257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AutoShape 258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AutoShape 259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AutoShape 260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AutoShape 261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AutoShape 262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AutoShape 263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Oval 264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Oval 265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Freeform 266"/>
            <p:cNvSpPr/>
            <p:nvPr/>
          </p:nvSpPr>
          <p:spPr>
            <a:xfrm>
              <a:off x="6039720" y="2528640"/>
              <a:ext cx="114840" cy="22968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AutoShape 267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AutoShape 268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AutoShape 269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AutoShape 270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AutoShape 271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AutoShape 272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8" name="Group 273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369" name="Line 274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275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276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277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278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279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280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281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282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283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284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285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Line 286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Line 287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Line 288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Line 289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Line 290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Line 291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Line 292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Line 293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9" name="AutoShape 294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AutoShape 295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1" name="AutoShape 296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AutoShape 297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AutoShape 298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4" name="Group 299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3395" name="Line 300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Line 301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Line 302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Line 303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304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305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306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307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308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309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310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311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312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313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314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315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316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317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318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319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AutoShape 320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AutoShape 321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AutoShape 322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AutoShape 323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AutoShape 324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0" name="Group 325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3421" name="Line 326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327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328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329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30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31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32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333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334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335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336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337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338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339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340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341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342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343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344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345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1" name="AutoShape 346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Freeform 347"/>
            <p:cNvSpPr/>
            <p:nvPr/>
          </p:nvSpPr>
          <p:spPr>
            <a:xfrm>
              <a:off x="6039720" y="2795040"/>
              <a:ext cx="10044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AutoShape 348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Freeform 349"/>
            <p:cNvSpPr/>
            <p:nvPr/>
          </p:nvSpPr>
          <p:spPr>
            <a:xfrm>
              <a:off x="6039720" y="2838600"/>
              <a:ext cx="144000" cy="3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5" name="Text Box 350"/>
          <p:cNvSpPr/>
          <p:nvPr/>
        </p:nvSpPr>
        <p:spPr>
          <a:xfrm>
            <a:off x="5615280" y="3549600"/>
            <a:ext cx="13251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6" name="Group 351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3447" name="AutoShape 352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AutoShape 353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9" name="Line 354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Freeform 355"/>
            <p:cNvSpPr/>
            <p:nvPr/>
          </p:nvSpPr>
          <p:spPr>
            <a:xfrm>
              <a:off x="2599920" y="2546640"/>
              <a:ext cx="559440" cy="10170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Freeform 356"/>
            <p:cNvSpPr/>
            <p:nvPr/>
          </p:nvSpPr>
          <p:spPr>
            <a:xfrm>
              <a:off x="2565000" y="2540880"/>
              <a:ext cx="2592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Freeform 357"/>
            <p:cNvSpPr/>
            <p:nvPr/>
          </p:nvSpPr>
          <p:spPr>
            <a:xfrm>
              <a:off x="3165480" y="2540880"/>
              <a:ext cx="28800" cy="102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Line 358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AutoShape 359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AutoShape 360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AutoShape 361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AutoShape 362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AutoShape 363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AutoShape 364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AutoShape 365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AutoShape 366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AutoShape 367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AutoShape 368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Oval 369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Oval 370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Freeform 371"/>
            <p:cNvSpPr/>
            <p:nvPr/>
          </p:nvSpPr>
          <p:spPr>
            <a:xfrm>
              <a:off x="2615760" y="2609640"/>
              <a:ext cx="117000" cy="230040"/>
            </a:xfrm>
            <a:prstGeom prst="pie">
              <a:avLst/>
            </a:pr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AutoShape 372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AutoShape 373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AutoShape 374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AutoShape 375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AutoShape 376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AutoShape 377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3" name="Group 378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474" name="Line 379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380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381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382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383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384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385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386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387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388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389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390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391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392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393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Line 394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Line 395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Line 396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Line 397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Line 398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4" name="AutoShape 399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AutoShape 400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AutoShape 401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AutoShape 402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AutoShape 403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9" name="Group 404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500" name="Line 405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Line 406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Line 407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Line 408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Line 409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Line 410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Line 411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412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413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414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415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416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417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418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419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420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421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422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423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424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AutoShape 425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AutoShape 426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AutoShape 427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AutoShape 428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AutoShape 429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5" name="Group 430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526" name="Line 431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432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433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434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435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436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437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438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439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440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441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442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443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444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445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446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447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48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49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450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6" name="AutoShape 451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Freeform 452"/>
            <p:cNvSpPr/>
            <p:nvPr/>
          </p:nvSpPr>
          <p:spPr>
            <a:xfrm>
              <a:off x="2615760" y="2876040"/>
              <a:ext cx="101160" cy="27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AutoShape 453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Freeform 454"/>
            <p:cNvSpPr/>
            <p:nvPr/>
          </p:nvSpPr>
          <p:spPr>
            <a:xfrm>
              <a:off x="2615760" y="2919600"/>
              <a:ext cx="145800" cy="3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0" name="Text Box 455"/>
          <p:cNvSpPr/>
          <p:nvPr/>
        </p:nvSpPr>
        <p:spPr>
          <a:xfrm>
            <a:off x="2204280" y="3809880"/>
            <a:ext cx="18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Text Box 456"/>
          <p:cNvSpPr/>
          <p:nvPr/>
        </p:nvSpPr>
        <p:spPr>
          <a:xfrm>
            <a:off x="3991320" y="4768920"/>
            <a:ext cx="1780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DNS nimede lahendamise protsess (puhverdamine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ale eelnevat päringut teab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üüd ja jätab meelde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.com nimeserverite nimed ja IP aadress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nimeserverite nimed ja IP aadress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00280" indent="-343080">
              <a:lnSpc>
                <a:spcPct val="91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www.nominum.com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P aadres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554" name="Group 5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555" name="AutoShape 6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Freeform 7"/>
            <p:cNvSpPr/>
            <p:nvPr/>
          </p:nvSpPr>
          <p:spPr>
            <a:xfrm>
              <a:off x="1313280" y="5245560"/>
              <a:ext cx="95040" cy="295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7" name="Freeform 8"/>
            <p:cNvSpPr/>
            <p:nvPr/>
          </p:nvSpPr>
          <p:spPr>
            <a:xfrm>
              <a:off x="1559880" y="5198040"/>
              <a:ext cx="230400" cy="13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Freeform 9"/>
            <p:cNvSpPr/>
            <p:nvPr/>
          </p:nvSpPr>
          <p:spPr>
            <a:xfrm>
              <a:off x="1316160" y="4594320"/>
              <a:ext cx="578160" cy="504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Freeform 10"/>
            <p:cNvSpPr/>
            <p:nvPr/>
          </p:nvSpPr>
          <p:spPr>
            <a:xfrm>
              <a:off x="1359360" y="4644720"/>
              <a:ext cx="498960" cy="387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Freeform 11"/>
            <p:cNvSpPr/>
            <p:nvPr/>
          </p:nvSpPr>
          <p:spPr>
            <a:xfrm>
              <a:off x="1376640" y="4662720"/>
              <a:ext cx="467280" cy="35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AutoShape 12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AutoShape 13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AutoShape 14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AutoShape 15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AutoShape 16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AutoShape 17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Line 18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Line 19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AutoShape 20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Freeform 21"/>
            <p:cNvSpPr/>
            <p:nvPr/>
          </p:nvSpPr>
          <p:spPr>
            <a:xfrm>
              <a:off x="1176480" y="5384520"/>
              <a:ext cx="849240" cy="17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Freeform 22"/>
            <p:cNvSpPr/>
            <p:nvPr/>
          </p:nvSpPr>
          <p:spPr>
            <a:xfrm>
              <a:off x="1177560" y="5556960"/>
              <a:ext cx="847800" cy="2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Freeform 23"/>
            <p:cNvSpPr/>
            <p:nvPr/>
          </p:nvSpPr>
          <p:spPr>
            <a:xfrm>
              <a:off x="1277280" y="5398560"/>
              <a:ext cx="544680" cy="1656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Freeform 24"/>
            <p:cNvSpPr/>
            <p:nvPr/>
          </p:nvSpPr>
          <p:spPr>
            <a:xfrm>
              <a:off x="1230840" y="5423760"/>
              <a:ext cx="498960" cy="85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Freeform 25"/>
            <p:cNvSpPr/>
            <p:nvPr/>
          </p:nvSpPr>
          <p:spPr>
            <a:xfrm>
              <a:off x="1734120" y="5423760"/>
              <a:ext cx="102600" cy="4032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Freeform 26"/>
            <p:cNvSpPr/>
            <p:nvPr/>
          </p:nvSpPr>
          <p:spPr>
            <a:xfrm>
              <a:off x="1741680" y="5467320"/>
              <a:ext cx="104760" cy="4320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Freeform 27"/>
            <p:cNvSpPr/>
            <p:nvPr/>
          </p:nvSpPr>
          <p:spPr>
            <a:xfrm>
              <a:off x="1836720" y="5426640"/>
              <a:ext cx="152640" cy="83880"/>
            </a:xfrm>
            <a:prstGeom prst="pie">
              <a:avLst/>
            </a:pr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AutoShape 28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AutoShape 29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AutoShape 30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AutoShape 31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1" name="Text Box 32"/>
          <p:cNvSpPr/>
          <p:nvPr/>
        </p:nvSpPr>
        <p:spPr>
          <a:xfrm>
            <a:off x="721440" y="5676840"/>
            <a:ext cx="1797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2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on traadiga ühenduses mitme eri arvutiga (X, Z, U, ...) siis kuidas saata nimelt soovitud arvutisse (meie näites X) oma inf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X ja Y pole otse ühenduses vaid teiste kaudu, siis kuidas jõuavad sõnumid ühest arvutist tei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info hulk on väga suur (näiteks 700 MB), kas saaks seda üksikute väiksemate tükkidena sa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kontrollida, kas tükid jõudsid pära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s teha, kui mõni tükk kaduma lähe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arvuti X tükid õieti kokku oskab pan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838080" y="376200"/>
            <a:ext cx="7767720" cy="308160"/>
            <a:chOff x="838080" y="376200"/>
            <a:chExt cx="7767720" cy="308160"/>
          </a:xfrm>
        </p:grpSpPr>
        <p:sp>
          <p:nvSpPr>
            <p:cNvPr id="85" name="Line 4"/>
            <p:cNvSpPr/>
            <p:nvPr/>
          </p:nvSpPr>
          <p:spPr>
            <a:xfrm>
              <a:off x="838080" y="679680"/>
              <a:ext cx="77662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5"/>
            <p:cNvSpPr/>
            <p:nvPr/>
          </p:nvSpPr>
          <p:spPr>
            <a:xfrm flipV="1">
              <a:off x="8605800" y="3762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telnetist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 näitel (klient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nab välja faile serverarvutist ja veidi lisainfi (HTTP päis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asub TCP pordil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% telne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www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.ttu.ee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üsitakse nimeserverilt “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ttu.ee” IP aa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nimeserver teeb DNS protokolliga rekursiivse otsing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b tulemuse 193.40.254.1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lnet loob TCP ühend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serveeritakse kohalik TCP 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serverile TCP ühenduse avamise kut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Text Box 2"/>
          <p:cNvSpPr/>
          <p:nvPr/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lnet saadab päring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TCP paketti sisaldav IP datagramm 193.40.254.185 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arsruutimistabelist selgub, et tuleb kasutada vaikimisi marsruutimisreeglit (Näiteks: 192.168.0.1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P abil tehakse kindlaks selle Etherneti aa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üldlevi aadressil küsimus 192.168.0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akse vastus 00:E0:1E:67:F4:3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Etherneti kaader aadressil 00:E0:1E:67:F4:3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odatakse kuni Etherneti võrk on va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detakse ka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192.168.0.1-s ja teistes marsruuterites korratakse marsruutimisprotseduu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1"/>
          <p:cNvSpPr/>
          <p:nvPr/>
        </p:nvSpPr>
        <p:spPr>
          <a:xfrm>
            <a:off x="838080" y="37944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IP kiht annab datagrammi andmeosa edasi TCP ki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ww.ttu.e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CP kiht annab pordi numbri järgi andmeosa edasi http serveri-programm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server-programm  töötleb päring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server-programm saadab vastuse ja lõpetab TCP ühend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rdub protseduur läbi TCP, IP ja Etherne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https://encrypted-tbn3.gstatic.com/images?q=tbn:ANd9GcTCiUYeV79-gcV-tWp4i4NqTzgPkmIYxGF8XDNjA2uUqUpiZXl5qw"/>
          <p:cNvPicPr/>
          <p:nvPr/>
        </p:nvPicPr>
        <p:blipFill>
          <a:blip r:embed="rId1"/>
          <a:stretch/>
        </p:blipFill>
        <p:spPr>
          <a:xfrm>
            <a:off x="2438280" y="762120"/>
            <a:ext cx="53341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838080" y="604800"/>
            <a:ext cx="7769520" cy="308160"/>
            <a:chOff x="838080" y="604800"/>
            <a:chExt cx="7769520" cy="308160"/>
          </a:xfrm>
        </p:grpSpPr>
        <p:sp>
          <p:nvSpPr>
            <p:cNvPr id="90" name="Line 4"/>
            <p:cNvSpPr/>
            <p:nvPr/>
          </p:nvSpPr>
          <p:spPr>
            <a:xfrm>
              <a:off x="838080" y="90828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V="1">
              <a:off x="8607600" y="604800"/>
              <a:ext cx="0" cy="3081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6"/>
          <p:cNvGrpSpPr/>
          <p:nvPr/>
        </p:nvGrpSpPr>
        <p:grpSpPr>
          <a:xfrm>
            <a:off x="2438280" y="2971800"/>
            <a:ext cx="297000" cy="301680"/>
            <a:chOff x="2438280" y="2971800"/>
            <a:chExt cx="297000" cy="301680"/>
          </a:xfrm>
        </p:grpSpPr>
        <p:sp>
          <p:nvSpPr>
            <p:cNvPr id="93" name="Freeform 7"/>
            <p:cNvSpPr/>
            <p:nvPr/>
          </p:nvSpPr>
          <p:spPr>
            <a:xfrm>
              <a:off x="2438280" y="297180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438280" y="2971800"/>
              <a:ext cx="297000" cy="712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62200" y="297180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2438280" y="1905120"/>
            <a:ext cx="297000" cy="301680"/>
            <a:chOff x="2438280" y="1905120"/>
            <a:chExt cx="297000" cy="301680"/>
          </a:xfrm>
        </p:grpSpPr>
        <p:sp>
          <p:nvSpPr>
            <p:cNvPr id="97" name="Freeform 11"/>
            <p:cNvSpPr/>
            <p:nvPr/>
          </p:nvSpPr>
          <p:spPr>
            <a:xfrm>
              <a:off x="2438280" y="190512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2438280" y="190512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662200" y="190512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4038480" y="2362320"/>
            <a:ext cx="297000" cy="301680"/>
            <a:chOff x="4038480" y="2362320"/>
            <a:chExt cx="297000" cy="301680"/>
          </a:xfrm>
        </p:grpSpPr>
        <p:sp>
          <p:nvSpPr>
            <p:cNvPr id="101" name="Freeform 15"/>
            <p:cNvSpPr/>
            <p:nvPr/>
          </p:nvSpPr>
          <p:spPr>
            <a:xfrm>
              <a:off x="4038480" y="2362320"/>
              <a:ext cx="297000" cy="301680"/>
            </a:xfrm>
            <a:prstGeom prst="pie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4038480" y="2362320"/>
              <a:ext cx="297000" cy="73080"/>
            </a:xfrm>
            <a:prstGeom prst="pie">
              <a:avLst/>
            </a:pr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4262400" y="2362320"/>
              <a:ext cx="71640" cy="301680"/>
            </a:xfrm>
            <a:prstGeom prst="pie">
              <a:avLst/>
            </a:pr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18"/>
          <p:cNvGrpSpPr/>
          <p:nvPr/>
        </p:nvGrpSpPr>
        <p:grpSpPr>
          <a:xfrm>
            <a:off x="5715000" y="2895480"/>
            <a:ext cx="297000" cy="301680"/>
            <a:chOff x="5715000" y="2895480"/>
            <a:chExt cx="297000" cy="301680"/>
          </a:xfrm>
        </p:grpSpPr>
        <p:sp>
          <p:nvSpPr>
            <p:cNvPr id="105" name="Freeform 19"/>
            <p:cNvSpPr/>
            <p:nvPr/>
          </p:nvSpPr>
          <p:spPr>
            <a:xfrm>
              <a:off x="5715000" y="2895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5715000" y="2895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5938920" y="28954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3962520" y="1295280"/>
            <a:ext cx="296640" cy="301680"/>
            <a:chOff x="3962520" y="1295280"/>
            <a:chExt cx="296640" cy="301680"/>
          </a:xfrm>
        </p:grpSpPr>
        <p:sp>
          <p:nvSpPr>
            <p:cNvPr id="109" name="Freeform 23"/>
            <p:cNvSpPr/>
            <p:nvPr/>
          </p:nvSpPr>
          <p:spPr>
            <a:xfrm>
              <a:off x="3962520" y="1295280"/>
              <a:ext cx="29664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962520" y="1295280"/>
              <a:ext cx="29664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4186080" y="1295280"/>
              <a:ext cx="7308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4038480" y="3505320"/>
            <a:ext cx="297000" cy="301680"/>
            <a:chOff x="4038480" y="3505320"/>
            <a:chExt cx="297000" cy="301680"/>
          </a:xfrm>
        </p:grpSpPr>
        <p:sp>
          <p:nvSpPr>
            <p:cNvPr id="113" name="Freeform 27"/>
            <p:cNvSpPr/>
            <p:nvPr/>
          </p:nvSpPr>
          <p:spPr>
            <a:xfrm>
              <a:off x="4038480" y="350532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4038480" y="350532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4262400" y="350532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117" name="Freeform 31"/>
            <p:cNvSpPr/>
            <p:nvPr/>
          </p:nvSpPr>
          <p:spPr>
            <a:xfrm>
              <a:off x="5867280" y="1752480"/>
              <a:ext cx="297000" cy="301680"/>
            </a:xfrm>
            <a:prstGeom prst="pie">
              <a:avLst/>
            </a:pr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5867280" y="1752480"/>
              <a:ext cx="297000" cy="73080"/>
            </a:xfrm>
            <a:prstGeom prst="pie">
              <a:avLst/>
            </a:pr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6091200" y="1752480"/>
              <a:ext cx="71640" cy="301680"/>
            </a:xfrm>
            <a:prstGeom prst="pie">
              <a:avLst/>
            </a:pr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Line 34"/>
          <p:cNvSpPr/>
          <p:nvPr/>
        </p:nvSpPr>
        <p:spPr>
          <a:xfrm flipV="1">
            <a:off x="2743200" y="2506680"/>
            <a:ext cx="129528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6172200" y="1714320"/>
            <a:ext cx="685800" cy="45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6858000" y="1523880"/>
            <a:ext cx="20908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1:23:45:67:89: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 flipV="1">
            <a:off x="4343400" y="1897200"/>
            <a:ext cx="1523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 flipV="1">
            <a:off x="4191120" y="2658600"/>
            <a:ext cx="1440" cy="8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 flipV="1">
            <a:off x="4335480" y="2506680"/>
            <a:ext cx="14637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 flipV="1">
            <a:off x="2735280" y="2049480"/>
            <a:ext cx="1311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V="1">
            <a:off x="4191120" y="1591920"/>
            <a:ext cx="144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3657600" y="4572000"/>
            <a:ext cx="28195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filter, mis õpib võrguliiklust kuulates millise traadi otsas on mingi masin ja saadab edasi AINULT sellele, kellele teade kuulu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es 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rvutitele 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18628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555156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47568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79C20-9D45-4942-888E-FEF975E4C8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1981080" y="2743200"/>
          <a:ext cx="5400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5400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Base5 ja 10Base2 Ethernet kasutas ühtset jagatud  siini (eetr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Etherneti algne siini arhite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02C15-6697-4C31-B4FF-60F5DCE189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admed on ühendatu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455840" y="251460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51460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Tänapäeval kasutatakse täht-arhitektuur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Marko</cp:lastModifiedBy>
  <dcterms:modified xsi:type="dcterms:W3CDTF">2013-11-09T09:12:36Z</dcterms:modified>
  <cp:revision>47</cp:revision>
  <dc:subject/>
  <dc:title>PowerPoint Presentation</dc:title>
</cp:coreProperties>
</file>